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A9A-2B68-4C5A-B88F-B2C1FDD6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CDB-A2A6-45A2-A315-EA7029E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D27-A488-4338-9735-0DE4B39A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CEA-FBCF-4FEA-BD4A-4BA464EA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7CC14-E6E0-42B4-821B-4CB52CE4F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F8694-E71B-40FA-9A17-17265DE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8248-12D4-454D-9BDD-3EB2FE84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8B3A9-BE07-47C3-86EF-590EAB4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B5465-1FBC-4B8E-8BA0-BB5DAEF9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FE7D9-EFD2-48E5-8DAF-4415492F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24B8-DACA-4CFB-9D3B-03258A3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43F-DB52-4F83-A486-E3686933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07B10-E748-4E9B-A65F-0F6E6AC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1F544-0109-469B-81E4-16799CE3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7325-44A6-4536-88D7-FF5BA3B8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54EDB-AB1A-4113-A145-F0E5CE5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035AF-80AC-4705-B90C-00EC37CCF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9B0-864C-4967-9EBE-1BD53D26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22E-40A3-495E-AE75-38414096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44A-88BE-471C-8D34-124815BA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688-E877-4919-96D6-A87268D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115-D117-4F2C-8ECB-DBEA198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B6A-E870-4646-B3FD-FDC1177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B78-9792-4986-8B90-F2A9434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9CA7-7EAA-4501-8E73-FD6130EDF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715-0059-4F21-9123-E22D5E62B2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00200"/>
            <a:ext cx="57909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81160" y="1752480"/>
            <a:ext cx="2438280" cy="584280"/>
            <a:chOff x="1181160" y="1752480"/>
            <a:chExt cx="2438280" cy="584280"/>
          </a:xfrm>
        </p:grpSpPr>
        <p:sp>
          <p:nvSpPr>
            <p:cNvPr id="102" name=""/>
            <p:cNvSpPr/>
            <p:nvPr/>
          </p:nvSpPr>
          <p:spPr>
            <a:xfrm>
              <a:off x="1181160" y="1752480"/>
              <a:ext cx="2438280" cy="584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920" y="1849680"/>
              <a:ext cx="190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Visit  Employment 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81160" y="7194600"/>
            <a:ext cx="2438280" cy="762120"/>
            <a:chOff x="1181160" y="7194600"/>
            <a:chExt cx="2438280" cy="762120"/>
          </a:xfrm>
        </p:grpSpPr>
        <p:sp>
          <p:nvSpPr>
            <p:cNvPr id="105" name=""/>
            <p:cNvSpPr/>
            <p:nvPr/>
          </p:nvSpPr>
          <p:spPr>
            <a:xfrm>
              <a:off x="1181160" y="719460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560" y="7255080"/>
              <a:ext cx="190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Register for Apprenticeship       (Fee: $4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81160" y="2562120"/>
            <a:ext cx="2438280" cy="762120"/>
            <a:chOff x="1181160" y="2562120"/>
            <a:chExt cx="2438280" cy="762120"/>
          </a:xfrm>
        </p:grpSpPr>
        <p:sp>
          <p:nvSpPr>
            <p:cNvPr id="108" name=""/>
            <p:cNvSpPr/>
            <p:nvPr/>
          </p:nvSpPr>
          <p:spPr>
            <a:xfrm>
              <a:off x="1181160" y="256212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262404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Learn about Apprenticeship &amp; determine your elig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33600" y="5195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47960" y="4586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23960" y="8001000"/>
            <a:ext cx="457200" cy="304920"/>
            <a:chOff x="2523960" y="8001000"/>
            <a:chExt cx="457200" cy="304920"/>
          </a:xfrm>
        </p:grpSpPr>
        <p:sp>
          <p:nvSpPr>
            <p:cNvPr id="113" name=""/>
            <p:cNvSpPr/>
            <p:nvPr/>
          </p:nvSpPr>
          <p:spPr>
            <a:xfrm>
              <a:off x="2562120" y="80010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23960" y="80168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84280" y="4878360"/>
            <a:ext cx="1831680" cy="1103400"/>
            <a:chOff x="1484280" y="4878360"/>
            <a:chExt cx="1831680" cy="1103400"/>
          </a:xfrm>
        </p:grpSpPr>
        <p:sp>
          <p:nvSpPr>
            <p:cNvPr id="116" name=""/>
            <p:cNvSpPr/>
            <p:nvPr/>
          </p:nvSpPr>
          <p:spPr>
            <a:xfrm>
              <a:off x="1484280" y="487836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6160" y="51768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n obtain transcrip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84280" y="3549600"/>
            <a:ext cx="1832040" cy="1103400"/>
            <a:chOff x="1484280" y="3549600"/>
            <a:chExt cx="1832040" cy="1103400"/>
          </a:xfrm>
        </p:grpSpPr>
        <p:sp>
          <p:nvSpPr>
            <p:cNvPr id="119" name=""/>
            <p:cNvSpPr/>
            <p:nvPr/>
          </p:nvSpPr>
          <p:spPr>
            <a:xfrm>
              <a:off x="1484280" y="3549600"/>
              <a:ext cx="183204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74796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 Grade 12 (Grade 10 for TQAA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181160" y="6207120"/>
            <a:ext cx="24382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64771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Search for Spon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03" idx="2"/>
            <a:endCxn id="108" idx="0"/>
          </p:cNvCxnSpPr>
          <p:nvPr/>
        </p:nvCxnSpPr>
        <p:spPr>
          <a:xfrm>
            <a:off x="2400120" y="2308680"/>
            <a:ext cx="720" cy="25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8" idx="2"/>
            <a:endCxn id="119" idx="0"/>
          </p:cNvCxnSpPr>
          <p:nvPr/>
        </p:nvCxnSpPr>
        <p:spPr>
          <a:xfrm>
            <a:off x="2400480" y="33242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9" idx="2"/>
            <a:endCxn id="116" idx="0"/>
          </p:cNvCxnSpPr>
          <p:nvPr/>
        </p:nvCxnSpPr>
        <p:spPr>
          <a:xfrm flipH="1">
            <a:off x="2400120" y="4653000"/>
            <a:ext cx="72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6" idx="2"/>
            <a:endCxn id="121" idx="0"/>
          </p:cNvCxnSpPr>
          <p:nvPr/>
        </p:nvCxnSpPr>
        <p:spPr>
          <a:xfrm>
            <a:off x="2400120" y="5981760"/>
            <a:ext cx="72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" name=""/>
          <p:cNvGrpSpPr/>
          <p:nvPr/>
        </p:nvGrpSpPr>
        <p:grpSpPr>
          <a:xfrm>
            <a:off x="3819600" y="3809880"/>
            <a:ext cx="1673280" cy="584280"/>
            <a:chOff x="3819600" y="3809880"/>
            <a:chExt cx="1673280" cy="584280"/>
          </a:xfrm>
        </p:grpSpPr>
        <p:sp>
          <p:nvSpPr>
            <p:cNvPr id="128" name=""/>
            <p:cNvSpPr/>
            <p:nvPr/>
          </p:nvSpPr>
          <p:spPr>
            <a:xfrm>
              <a:off x="3819600" y="3809880"/>
              <a:ext cx="1673280" cy="584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4760" y="3873600"/>
              <a:ext cx="154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pgrade to required 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9600" y="5202360"/>
            <a:ext cx="1673280" cy="457200"/>
            <a:chOff x="3819600" y="5202360"/>
            <a:chExt cx="1673280" cy="457200"/>
          </a:xfrm>
        </p:grpSpPr>
        <p:sp>
          <p:nvSpPr>
            <p:cNvPr id="131" name=""/>
            <p:cNvSpPr/>
            <p:nvPr/>
          </p:nvSpPr>
          <p:spPr>
            <a:xfrm>
              <a:off x="3819600" y="5202360"/>
              <a:ext cx="1673280" cy="4572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4760" y="5292720"/>
              <a:ext cx="15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 the GED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3" name=""/>
          <p:cNvCxnSpPr>
            <a:stCxn id="119" idx="3"/>
            <a:endCxn id="128" idx="1"/>
          </p:cNvCxnSpPr>
          <p:nvPr/>
        </p:nvCxnSpPr>
        <p:spPr>
          <a:xfrm>
            <a:off x="3316320" y="4101480"/>
            <a:ext cx="50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1" idx="2"/>
            <a:endCxn id="105" idx="0"/>
          </p:cNvCxnSpPr>
          <p:nvPr/>
        </p:nvCxnSpPr>
        <p:spPr>
          <a:xfrm>
            <a:off x="2400480" y="69692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438280" y="792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6" idx="3"/>
            <a:endCxn id="131" idx="1"/>
          </p:cNvCxnSpPr>
          <p:nvPr/>
        </p:nvCxnSpPr>
        <p:spPr>
          <a:xfrm>
            <a:off x="3315960" y="54302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3276720" y="3886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28880" y="5938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3"/>
            <a:endCxn id="121" idx="3"/>
          </p:cNvCxnSpPr>
          <p:nvPr/>
        </p:nvCxnSpPr>
        <p:spPr>
          <a:xfrm flipH="1">
            <a:off x="3619440" y="4102200"/>
            <a:ext cx="1873800" cy="2486520"/>
          </a:xfrm>
          <a:prstGeom prst="bentConnector3">
            <a:avLst>
              <a:gd name="adj1" fmla="val -12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>
            <a:off x="3580920" y="5410080"/>
            <a:ext cx="1912320" cy="1185120"/>
          </a:xfrm>
          <a:prstGeom prst="bentConnector3">
            <a:avLst>
              <a:gd name="adj1" fmla="val -11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7150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317400" y="-153288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Apprenticeship Appl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85B-DF42-4528-87B1-25633AF3A6B8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523880"/>
            <a:ext cx="6248160" cy="69343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21080" y="1562040"/>
            <a:ext cx="495360" cy="381240"/>
            <a:chOff x="3421080" y="1562040"/>
            <a:chExt cx="495360" cy="381240"/>
          </a:xfrm>
        </p:grpSpPr>
        <p:sp>
          <p:nvSpPr>
            <p:cNvPr id="147" name=""/>
            <p:cNvSpPr/>
            <p:nvPr/>
          </p:nvSpPr>
          <p:spPr>
            <a:xfrm>
              <a:off x="3421080" y="15620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459240" y="1579680"/>
              <a:ext cx="457200" cy="304920"/>
              <a:chOff x="3459240" y="1579680"/>
              <a:chExt cx="457200" cy="304920"/>
            </a:xfrm>
          </p:grpSpPr>
          <p:sp>
            <p:nvSpPr>
              <p:cNvPr id="149" name=""/>
              <p:cNvSpPr/>
              <p:nvPr/>
            </p:nvSpPr>
            <p:spPr>
              <a:xfrm>
                <a:off x="3497400" y="1579680"/>
                <a:ext cx="342720" cy="30492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9240" y="15955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857680" y="2975040"/>
            <a:ext cx="1143000" cy="914400"/>
            <a:chOff x="2857680" y="2975040"/>
            <a:chExt cx="1143000" cy="914400"/>
          </a:xfrm>
        </p:grpSpPr>
        <p:sp>
          <p:nvSpPr>
            <p:cNvPr id="152" name=""/>
            <p:cNvSpPr/>
            <p:nvPr/>
          </p:nvSpPr>
          <p:spPr>
            <a:xfrm>
              <a:off x="2857680" y="2975040"/>
              <a:ext cx="11430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0320" y="320364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186080" y="3211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1160" y="3973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18160" y="4483080"/>
            <a:ext cx="1673280" cy="507960"/>
            <a:chOff x="4718160" y="4483080"/>
            <a:chExt cx="1673280" cy="507960"/>
          </a:xfrm>
        </p:grpSpPr>
        <p:sp>
          <p:nvSpPr>
            <p:cNvPr id="157" name=""/>
            <p:cNvSpPr/>
            <p:nvPr/>
          </p:nvSpPr>
          <p:spPr>
            <a:xfrm>
              <a:off x="4718160" y="448308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83320" y="450828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880" y="4483080"/>
            <a:ext cx="1673280" cy="507960"/>
            <a:chOff x="434880" y="4483080"/>
            <a:chExt cx="1673280" cy="507960"/>
          </a:xfrm>
        </p:grpSpPr>
        <p:sp>
          <p:nvSpPr>
            <p:cNvPr id="160" name=""/>
            <p:cNvSpPr/>
            <p:nvPr/>
          </p:nvSpPr>
          <p:spPr>
            <a:xfrm>
              <a:off x="434880" y="448308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040" y="450828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THE-JOB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47560" y="6553080"/>
            <a:ext cx="1447920" cy="1370880"/>
            <a:chOff x="547560" y="6553080"/>
            <a:chExt cx="1447920" cy="1370880"/>
          </a:xfrm>
        </p:grpSpPr>
        <p:sp>
          <p:nvSpPr>
            <p:cNvPr id="163" name=""/>
            <p:cNvSpPr/>
            <p:nvPr/>
          </p:nvSpPr>
          <p:spPr>
            <a:xfrm>
              <a:off x="547560" y="6553080"/>
              <a:ext cx="1447920" cy="1370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280" y="6620760"/>
              <a:ext cx="1337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rs has authority to “sign off” competencies demonstrated on the jo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1" idx="0"/>
            <a:endCxn id="158" idx="0"/>
          </p:cNvCxnSpPr>
          <p:nvPr/>
        </p:nvCxnSpPr>
        <p:spPr>
          <a:xfrm flipH="1" rot="16200000">
            <a:off x="3413520" y="2367720"/>
            <a:ext cx="2160" cy="4283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429000" y="3886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905360" y="3125880"/>
            <a:ext cx="685800" cy="609480"/>
            <a:chOff x="4905360" y="3125880"/>
            <a:chExt cx="685800" cy="609480"/>
          </a:xfrm>
        </p:grpSpPr>
        <p:sp>
          <p:nvSpPr>
            <p:cNvPr id="168" name=""/>
            <p:cNvSpPr/>
            <p:nvPr/>
          </p:nvSpPr>
          <p:spPr>
            <a:xfrm>
              <a:off x="4924440" y="3125880"/>
              <a:ext cx="647640" cy="60948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05360" y="32018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QAA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562720" y="3173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’d.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3349080" y="-158220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Apprenticeship Training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14720" y="1943280"/>
            <a:ext cx="2438280" cy="761760"/>
            <a:chOff x="2214720" y="1943280"/>
            <a:chExt cx="2438280" cy="761760"/>
          </a:xfrm>
        </p:grpSpPr>
        <p:sp>
          <p:nvSpPr>
            <p:cNvPr id="173" name=""/>
            <p:cNvSpPr/>
            <p:nvPr/>
          </p:nvSpPr>
          <p:spPr>
            <a:xfrm>
              <a:off x="2214720" y="1943280"/>
              <a:ext cx="243828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2520" y="200484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Review prior training and experience with Sponsor and Training Consul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8720" y="5332320"/>
            <a:ext cx="1425600" cy="884160"/>
            <a:chOff x="558720" y="5332320"/>
            <a:chExt cx="1425600" cy="884160"/>
          </a:xfrm>
        </p:grpSpPr>
        <p:sp>
          <p:nvSpPr>
            <p:cNvPr id="176" name=""/>
            <p:cNvSpPr/>
            <p:nvPr/>
          </p:nvSpPr>
          <p:spPr>
            <a:xfrm>
              <a:off x="558720" y="533232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" y="55450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work  experien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30840" y="6553080"/>
            <a:ext cx="1447560" cy="1751760"/>
            <a:chOff x="4830840" y="6553080"/>
            <a:chExt cx="1447560" cy="1751760"/>
          </a:xfrm>
        </p:grpSpPr>
        <p:sp>
          <p:nvSpPr>
            <p:cNvPr id="179" name=""/>
            <p:cNvSpPr/>
            <p:nvPr/>
          </p:nvSpPr>
          <p:spPr>
            <a:xfrm>
              <a:off x="4830840" y="6553080"/>
              <a:ext cx="1447560" cy="175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5560" y="6639840"/>
              <a:ext cx="1337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be eligible for exemption tests.  If no exemption test is available, attend a PLAR Assess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42000" y="5332320"/>
            <a:ext cx="1425600" cy="884160"/>
            <a:chOff x="4842000" y="5332320"/>
            <a:chExt cx="1425600" cy="884160"/>
          </a:xfrm>
        </p:grpSpPr>
        <p:sp>
          <p:nvSpPr>
            <p:cNvPr id="182" name=""/>
            <p:cNvSpPr/>
            <p:nvPr/>
          </p:nvSpPr>
          <p:spPr>
            <a:xfrm>
              <a:off x="4842000" y="533232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88160" y="55450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trai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61" idx="2"/>
            <a:endCxn id="176" idx="0"/>
          </p:cNvCxnSpPr>
          <p:nvPr/>
        </p:nvCxnSpPr>
        <p:spPr>
          <a:xfrm flipH="1">
            <a:off x="1270800" y="4965840"/>
            <a:ext cx="252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6" idx="2"/>
            <a:endCxn id="163" idx="0"/>
          </p:cNvCxnSpPr>
          <p:nvPr/>
        </p:nvCxnSpPr>
        <p:spPr>
          <a:xfrm>
            <a:off x="1271160" y="621612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58" idx="2"/>
            <a:endCxn id="182" idx="0"/>
          </p:cNvCxnSpPr>
          <p:nvPr/>
        </p:nvCxnSpPr>
        <p:spPr>
          <a:xfrm flipH="1">
            <a:off x="5554440" y="4965840"/>
            <a:ext cx="216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2" idx="2"/>
            <a:endCxn id="179" idx="0"/>
          </p:cNvCxnSpPr>
          <p:nvPr/>
        </p:nvCxnSpPr>
        <p:spPr>
          <a:xfrm>
            <a:off x="5554440" y="621612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809640" y="6229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6760" y="62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09680" y="5521320"/>
            <a:ext cx="914400" cy="507960"/>
            <a:chOff x="2209680" y="5521320"/>
            <a:chExt cx="914400" cy="507960"/>
          </a:xfrm>
        </p:grpSpPr>
        <p:sp>
          <p:nvSpPr>
            <p:cNvPr id="191" name=""/>
            <p:cNvSpPr/>
            <p:nvPr/>
          </p:nvSpPr>
          <p:spPr>
            <a:xfrm>
              <a:off x="2209680" y="5521320"/>
              <a:ext cx="91440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44240" y="5546520"/>
              <a:ext cx="84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733920" y="5519880"/>
            <a:ext cx="914400" cy="507960"/>
            <a:chOff x="3733920" y="5519880"/>
            <a:chExt cx="914400" cy="507960"/>
          </a:xfrm>
        </p:grpSpPr>
        <p:sp>
          <p:nvSpPr>
            <p:cNvPr id="194" name=""/>
            <p:cNvSpPr/>
            <p:nvPr/>
          </p:nvSpPr>
          <p:spPr>
            <a:xfrm>
              <a:off x="3733920" y="5519880"/>
              <a:ext cx="91440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8480" y="5545080"/>
              <a:ext cx="84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77" idx="3"/>
            <a:endCxn id="191" idx="1"/>
          </p:cNvCxnSpPr>
          <p:nvPr/>
        </p:nvCxnSpPr>
        <p:spPr>
          <a:xfrm>
            <a:off x="1923840" y="5773320"/>
            <a:ext cx="286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2" idx="1"/>
            <a:endCxn id="195" idx="3"/>
          </p:cNvCxnSpPr>
          <p:nvPr/>
        </p:nvCxnSpPr>
        <p:spPr>
          <a:xfrm flipH="1" flipV="1">
            <a:off x="4612680" y="577296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838160" y="5477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4840" y="5452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438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3" idx="2"/>
            <a:endCxn id="152" idx="0"/>
          </p:cNvCxnSpPr>
          <p:nvPr/>
        </p:nvCxnSpPr>
        <p:spPr>
          <a:xfrm flipH="1">
            <a:off x="3428280" y="2705040"/>
            <a:ext cx="54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8F8-9B6E-45E9-A64C-B7787B534014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1676520"/>
            <a:ext cx="62481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168640" y="3970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187800" y="4479840"/>
            <a:ext cx="1673280" cy="507960"/>
            <a:chOff x="3187800" y="4479840"/>
            <a:chExt cx="1673280" cy="507960"/>
          </a:xfrm>
        </p:grpSpPr>
        <p:sp>
          <p:nvSpPr>
            <p:cNvPr id="207" name=""/>
            <p:cNvSpPr/>
            <p:nvPr/>
          </p:nvSpPr>
          <p:spPr>
            <a:xfrm>
              <a:off x="3187800" y="447984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52960" y="450504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4880" y="4479840"/>
            <a:ext cx="1673280" cy="507960"/>
            <a:chOff x="434880" y="4479840"/>
            <a:chExt cx="1673280" cy="507960"/>
          </a:xfrm>
        </p:grpSpPr>
        <p:sp>
          <p:nvSpPr>
            <p:cNvPr id="210" name=""/>
            <p:cNvSpPr/>
            <p:nvPr/>
          </p:nvSpPr>
          <p:spPr>
            <a:xfrm>
              <a:off x="434880" y="447984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040" y="450504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THE-JOB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9760" y="6613560"/>
            <a:ext cx="1509480" cy="1526040"/>
            <a:chOff x="509760" y="6613560"/>
            <a:chExt cx="1509480" cy="1526040"/>
          </a:xfrm>
        </p:grpSpPr>
        <p:sp>
          <p:nvSpPr>
            <p:cNvPr id="213" name=""/>
            <p:cNvSpPr/>
            <p:nvPr/>
          </p:nvSpPr>
          <p:spPr>
            <a:xfrm>
              <a:off x="509760" y="6613560"/>
              <a:ext cx="1509480" cy="15260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640" y="6689160"/>
              <a:ext cx="1394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have your hours reduced on your contract of apprenticeship with required document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5" name=""/>
          <p:cNvCxnSpPr>
            <a:stCxn id="211" idx="0"/>
            <a:endCxn id="208" idx="0"/>
          </p:cNvCxnSpPr>
          <p:nvPr/>
        </p:nvCxnSpPr>
        <p:spPr>
          <a:xfrm flipH="1" rot="16200000">
            <a:off x="2648880" y="3129480"/>
            <a:ext cx="2160" cy="2753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 rot="16200000">
            <a:off x="3450600" y="-146844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Apprenticeship Training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58720" y="5214960"/>
            <a:ext cx="1425600" cy="884160"/>
            <a:chOff x="558720" y="5214960"/>
            <a:chExt cx="1425600" cy="884160"/>
          </a:xfrm>
        </p:grpSpPr>
        <p:sp>
          <p:nvSpPr>
            <p:cNvPr id="218" name=""/>
            <p:cNvSpPr/>
            <p:nvPr/>
          </p:nvSpPr>
          <p:spPr>
            <a:xfrm>
              <a:off x="558720" y="521496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4277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work  experien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76920" y="5130720"/>
            <a:ext cx="1523880" cy="1403280"/>
            <a:chOff x="4876920" y="5130720"/>
            <a:chExt cx="1523880" cy="1403280"/>
          </a:xfrm>
        </p:grpSpPr>
        <p:sp>
          <p:nvSpPr>
            <p:cNvPr id="221" name=""/>
            <p:cNvSpPr/>
            <p:nvPr/>
          </p:nvSpPr>
          <p:spPr>
            <a:xfrm>
              <a:off x="4876920" y="5130720"/>
              <a:ext cx="1523880" cy="1403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0920" y="5141880"/>
              <a:ext cx="1385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be eligible for exemption tests.  If no test is available, attend a PLAR Assess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76520" y="5386320"/>
            <a:ext cx="1095480" cy="884160"/>
            <a:chOff x="3476520" y="5386320"/>
            <a:chExt cx="1095480" cy="884160"/>
          </a:xfrm>
        </p:grpSpPr>
        <p:sp>
          <p:nvSpPr>
            <p:cNvPr id="224" name=""/>
            <p:cNvSpPr/>
            <p:nvPr/>
          </p:nvSpPr>
          <p:spPr>
            <a:xfrm>
              <a:off x="3476520" y="5386320"/>
              <a:ext cx="109548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8840" y="5599080"/>
              <a:ext cx="9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trai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" name=""/>
          <p:cNvCxnSpPr>
            <a:stCxn id="211" idx="2"/>
            <a:endCxn id="218" idx="0"/>
          </p:cNvCxnSpPr>
          <p:nvPr/>
        </p:nvCxnSpPr>
        <p:spPr>
          <a:xfrm flipH="1">
            <a:off x="1270800" y="4962240"/>
            <a:ext cx="25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8" idx="2"/>
            <a:endCxn id="213" idx="0"/>
          </p:cNvCxnSpPr>
          <p:nvPr/>
        </p:nvCxnSpPr>
        <p:spPr>
          <a:xfrm flipH="1">
            <a:off x="1264680" y="6098760"/>
            <a:ext cx="68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08" idx="2"/>
            <a:endCxn id="224" idx="0"/>
          </p:cNvCxnSpPr>
          <p:nvPr/>
        </p:nvCxnSpPr>
        <p:spPr>
          <a:xfrm flipH="1">
            <a:off x="4024080" y="4962240"/>
            <a:ext cx="216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809640" y="6111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549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5403960"/>
            <a:ext cx="762120" cy="507960"/>
            <a:chOff x="2209680" y="5403960"/>
            <a:chExt cx="762120" cy="507960"/>
          </a:xfrm>
        </p:grpSpPr>
        <p:sp>
          <p:nvSpPr>
            <p:cNvPr id="232" name=""/>
            <p:cNvSpPr/>
            <p:nvPr/>
          </p:nvSpPr>
          <p:spPr>
            <a:xfrm>
              <a:off x="2209680" y="5403960"/>
              <a:ext cx="76212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8480" y="5429160"/>
              <a:ext cx="70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4" name=""/>
          <p:cNvCxnSpPr>
            <a:stCxn id="219" idx="3"/>
            <a:endCxn id="232" idx="1"/>
          </p:cNvCxnSpPr>
          <p:nvPr/>
        </p:nvCxnSpPr>
        <p:spPr>
          <a:xfrm>
            <a:off x="1923840" y="56563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1838160" y="535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76520" y="6859440"/>
            <a:ext cx="1095480" cy="884160"/>
            <a:chOff x="3476520" y="6859440"/>
            <a:chExt cx="1095480" cy="884160"/>
          </a:xfrm>
        </p:grpSpPr>
        <p:sp>
          <p:nvSpPr>
            <p:cNvPr id="237" name=""/>
            <p:cNvSpPr/>
            <p:nvPr/>
          </p:nvSpPr>
          <p:spPr>
            <a:xfrm>
              <a:off x="3476520" y="6859440"/>
              <a:ext cx="109548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78400" y="715608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de12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76920" y="6730920"/>
            <a:ext cx="1523520" cy="1143000"/>
            <a:chOff x="4876920" y="6730920"/>
            <a:chExt cx="1523520" cy="1143000"/>
          </a:xfrm>
        </p:grpSpPr>
        <p:sp>
          <p:nvSpPr>
            <p:cNvPr id="240" name=""/>
            <p:cNvSpPr/>
            <p:nvPr/>
          </p:nvSpPr>
          <p:spPr>
            <a:xfrm>
              <a:off x="4876920" y="6730920"/>
              <a:ext cx="1523520" cy="11430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31640" y="6785640"/>
              <a:ext cx="1384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have your hours reduced on your contract of apprenticeshi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68960" y="6921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24" idx="3"/>
            <a:endCxn id="221" idx="1"/>
          </p:cNvCxnSpPr>
          <p:nvPr/>
        </p:nvCxnSpPr>
        <p:spPr>
          <a:xfrm>
            <a:off x="4571640" y="5829480"/>
            <a:ext cx="3056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3"/>
            <a:endCxn id="240" idx="1"/>
          </p:cNvCxnSpPr>
          <p:nvPr/>
        </p:nvCxnSpPr>
        <p:spPr>
          <a:xfrm>
            <a:off x="4571640" y="7302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4" idx="2"/>
            <a:endCxn id="237" idx="0"/>
          </p:cNvCxnSpPr>
          <p:nvPr/>
        </p:nvCxnSpPr>
        <p:spPr>
          <a:xfrm>
            <a:off x="4024080" y="6270480"/>
            <a:ext cx="108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632040" y="6603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416400" y="7975440"/>
            <a:ext cx="1218960" cy="330480"/>
            <a:chOff x="3416400" y="7975440"/>
            <a:chExt cx="1218960" cy="330480"/>
          </a:xfrm>
        </p:grpSpPr>
        <p:sp>
          <p:nvSpPr>
            <p:cNvPr id="248" name=""/>
            <p:cNvSpPr/>
            <p:nvPr/>
          </p:nvSpPr>
          <p:spPr>
            <a:xfrm>
              <a:off x="3416400" y="7975440"/>
              <a:ext cx="1218960" cy="330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63560" y="79905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>
            <a:stCxn id="237" idx="2"/>
            <a:endCxn id="249" idx="0"/>
          </p:cNvCxnSpPr>
          <p:nvPr/>
        </p:nvCxnSpPr>
        <p:spPr>
          <a:xfrm>
            <a:off x="4024440" y="7743960"/>
            <a:ext cx="216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3632040" y="7721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03520" y="1727280"/>
            <a:ext cx="495360" cy="380880"/>
            <a:chOff x="2603520" y="1727280"/>
            <a:chExt cx="495360" cy="380880"/>
          </a:xfrm>
        </p:grpSpPr>
        <p:sp>
          <p:nvSpPr>
            <p:cNvPr id="253" name=""/>
            <p:cNvSpPr/>
            <p:nvPr/>
          </p:nvSpPr>
          <p:spPr>
            <a:xfrm>
              <a:off x="2603520" y="1727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641680" y="1744560"/>
              <a:ext cx="457200" cy="304560"/>
              <a:chOff x="2641680" y="1744560"/>
              <a:chExt cx="457200" cy="304560"/>
            </a:xfrm>
          </p:grpSpPr>
          <p:sp>
            <p:nvSpPr>
              <p:cNvPr id="255" name=""/>
              <p:cNvSpPr/>
              <p:nvPr/>
            </p:nvSpPr>
            <p:spPr>
              <a:xfrm>
                <a:off x="2679840" y="1744560"/>
                <a:ext cx="342720" cy="30456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1680" y="17600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397160" y="2095560"/>
            <a:ext cx="2438280" cy="762120"/>
            <a:chOff x="1397160" y="2095560"/>
            <a:chExt cx="2438280" cy="762120"/>
          </a:xfrm>
        </p:grpSpPr>
        <p:sp>
          <p:nvSpPr>
            <p:cNvPr id="258" name=""/>
            <p:cNvSpPr/>
            <p:nvPr/>
          </p:nvSpPr>
          <p:spPr>
            <a:xfrm>
              <a:off x="1397160" y="209556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34960" y="215748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Review prior training and experience with Sponsor and Training Consul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0" name=""/>
          <p:cNvCxnSpPr/>
          <p:nvPr/>
        </p:nvCxnSpPr>
        <p:spPr>
          <a:xfrm flipH="1">
            <a:off x="2610720" y="2882880"/>
            <a:ext cx="54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1" name=""/>
          <p:cNvGrpSpPr/>
          <p:nvPr/>
        </p:nvGrpSpPr>
        <p:grpSpPr>
          <a:xfrm>
            <a:off x="2044800" y="3124080"/>
            <a:ext cx="1143000" cy="914400"/>
            <a:chOff x="2044800" y="3124080"/>
            <a:chExt cx="1143000" cy="914400"/>
          </a:xfrm>
        </p:grpSpPr>
        <p:sp>
          <p:nvSpPr>
            <p:cNvPr id="262" name=""/>
            <p:cNvSpPr/>
            <p:nvPr/>
          </p:nvSpPr>
          <p:spPr>
            <a:xfrm>
              <a:off x="2044800" y="3124080"/>
              <a:ext cx="11430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97440" y="335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QAA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616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F0C-3227-4393-B68C-4E9CEB183EEB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3520" y="1600200"/>
            <a:ext cx="57909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4432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41600" y="4118040"/>
            <a:ext cx="1832040" cy="1103400"/>
            <a:chOff x="2541600" y="4118040"/>
            <a:chExt cx="1832040" cy="1103400"/>
          </a:xfrm>
        </p:grpSpPr>
        <p:sp>
          <p:nvSpPr>
            <p:cNvPr id="270" name=""/>
            <p:cNvSpPr/>
            <p:nvPr/>
          </p:nvSpPr>
          <p:spPr>
            <a:xfrm>
              <a:off x="2541600" y="4118040"/>
              <a:ext cx="183204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2280" y="44164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tricted or Compulsory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981080" y="4413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95400" y="5450040"/>
            <a:ext cx="1828800" cy="1941480"/>
            <a:chOff x="995400" y="5450040"/>
            <a:chExt cx="1828800" cy="1941480"/>
          </a:xfrm>
        </p:grpSpPr>
        <p:sp>
          <p:nvSpPr>
            <p:cNvPr id="274" name=""/>
            <p:cNvSpPr/>
            <p:nvPr/>
          </p:nvSpPr>
          <p:spPr>
            <a:xfrm>
              <a:off x="995400" y="5450040"/>
              <a:ext cx="1828800" cy="1941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553000"/>
              <a:ext cx="168768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f exam exists for the trade, you may apply for the C of Q Exam on a voluntary basis.      If so, go to Certification Pathway Flowchart (Step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, Preparing for Certif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065480" y="5494320"/>
            <a:ext cx="1828800" cy="1058760"/>
            <a:chOff x="4065480" y="5494320"/>
            <a:chExt cx="1828800" cy="1058760"/>
          </a:xfrm>
        </p:grpSpPr>
        <p:sp>
          <p:nvSpPr>
            <p:cNvPr id="277" name=""/>
            <p:cNvSpPr/>
            <p:nvPr/>
          </p:nvSpPr>
          <p:spPr>
            <a:xfrm>
              <a:off x="4065480" y="5494320"/>
              <a:ext cx="1828800" cy="1058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35320" y="5651640"/>
              <a:ext cx="168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Certification Pathway Flowchart (Step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, Preparing for Certif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45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0" idx="3"/>
            <a:endCxn id="277" idx="0"/>
          </p:cNvCxnSpPr>
          <p:nvPr/>
        </p:nvCxnSpPr>
        <p:spPr>
          <a:xfrm>
            <a:off x="4373640" y="4669920"/>
            <a:ext cx="606960" cy="82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0" idx="1"/>
            <a:endCxn id="274" idx="0"/>
          </p:cNvCxnSpPr>
          <p:nvPr/>
        </p:nvCxnSpPr>
        <p:spPr>
          <a:xfrm flipV="1" rot="10800000">
            <a:off x="1909080" y="4669920"/>
            <a:ext cx="632520" cy="780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 rot="16200000">
            <a:off x="3269880" y="-159480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Obtain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2960" y="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816200" y="2057400"/>
            <a:ext cx="3276360" cy="609480"/>
            <a:chOff x="1816200" y="2057400"/>
            <a:chExt cx="3276360" cy="609480"/>
          </a:xfrm>
        </p:grpSpPr>
        <p:sp>
          <p:nvSpPr>
            <p:cNvPr id="285" name=""/>
            <p:cNvSpPr/>
            <p:nvPr/>
          </p:nvSpPr>
          <p:spPr>
            <a:xfrm>
              <a:off x="1816200" y="2057400"/>
              <a:ext cx="32763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92160" y="2133720"/>
              <a:ext cx="312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Complete On-the-Job Training and  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816200" y="3124080"/>
            <a:ext cx="3276360" cy="609480"/>
            <a:chOff x="1816200" y="3124080"/>
            <a:chExt cx="3276360" cy="609480"/>
          </a:xfrm>
        </p:grpSpPr>
        <p:sp>
          <p:nvSpPr>
            <p:cNvPr id="288" name=""/>
            <p:cNvSpPr/>
            <p:nvPr/>
          </p:nvSpPr>
          <p:spPr>
            <a:xfrm>
              <a:off x="1816200" y="3124080"/>
              <a:ext cx="32763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2160" y="3290760"/>
              <a:ext cx="312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Apply for Cer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" name=""/>
          <p:cNvCxnSpPr>
            <a:stCxn id="285" idx="2"/>
            <a:endCxn id="288" idx="0"/>
          </p:cNvCxnSpPr>
          <p:nvPr/>
        </p:nvCxnSpPr>
        <p:spPr>
          <a:xfrm>
            <a:off x="3454200" y="2666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8" idx="2"/>
            <a:endCxn id="270" idx="0"/>
          </p:cNvCxnSpPr>
          <p:nvPr/>
        </p:nvCxnSpPr>
        <p:spPr>
          <a:xfrm>
            <a:off x="3454560" y="3733560"/>
            <a:ext cx="360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5CA-C32D-4353-A45A-CE097856B1E3}" type="slidenum">
              <a:t>4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arolyn</cp:lastModifiedBy>
  <dcterms:modified xsi:type="dcterms:W3CDTF">2005-08-24T19:08:13Z</dcterms:modified>
  <cp:revision>159</cp:revision>
  <dc:subject/>
  <dc:title>Newcomers Connecting to Trades Apprenticeship Resources (NeCTAR)</dc:title>
</cp:coreProperties>
</file>