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7234-9EB5-409E-AC4B-201A5F8F1A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20AD2-A379-464F-9BD3-DFB7989B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8EAA-701C-4178-BB93-A5DC2E67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408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06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408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06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FD97-7750-4996-B20D-A7BDC1518D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14034-A657-48AA-89D7-0564656EF3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CCD50-863D-4432-921D-6256F155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0C4B4-92F1-4E3A-AECB-4B2C1978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2BD2D-86A9-43DF-8DBC-272F9139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F756D-1493-4554-A5F6-F2D63222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920" y="190080"/>
            <a:ext cx="7794720" cy="36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D2488-CEFF-47B2-83C6-3DD39318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2E6E0-AB16-4FEB-849A-2B3C9C70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099B1-E4B0-467C-9F3F-F7F28330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7AB59-F054-46ED-AF0D-EF769D0B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DE4E7-FE7B-4184-B30B-D454D407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20A87-F4B6-4CB7-A20F-309AE7BF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39819-EBDD-4747-9625-A0278C40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08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706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08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706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7B833-1508-44F6-A166-1C18FC49B6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E0EF9-930D-4E73-A06E-55F4AC3C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C893-6697-4E71-9228-3C0A744E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260E-CE91-4D9E-BFE6-BDE9CDAA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920" y="190080"/>
            <a:ext cx="7794720" cy="36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50D95-A375-4784-BD28-DB0FD7AF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71FE4-56BD-44F8-9DCF-2F3DE41D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35C9-D38B-4A7E-8857-81E8D148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1D954-1873-414C-B498-8451EEF1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31284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31284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351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73512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620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048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9954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467120" y="6324480"/>
            <a:ext cx="14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258480" y="6188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4"/>
          </p:nvPr>
        </p:nvSpPr>
        <p:spPr>
          <a:xfrm>
            <a:off x="7467480" y="6172200"/>
            <a:ext cx="15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AB6C-EDA6-499C-A31C-D30BF53CF5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2480" y="6143760"/>
            <a:ext cx="509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0" y="1200240"/>
            <a:ext cx="5867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fu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because s/he has reason to believe work endangers health or saf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962000"/>
            <a:ext cx="5791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ports problem to supervisor/mana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495520"/>
            <a:ext cx="5791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presentative called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952720"/>
            <a:ext cx="57913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pervisor investigates in presence of worker and worker represent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3409920"/>
            <a:ext cx="2361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es the supervisor agree that the situation endangers health and /or safe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409920"/>
            <a:ext cx="5652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562200"/>
            <a:ext cx="5634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3486240"/>
            <a:ext cx="40140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638520"/>
            <a:ext cx="52416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172040"/>
            <a:ext cx="2252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pervisor takes corrective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4933800"/>
            <a:ext cx="225252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turns to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943440"/>
            <a:ext cx="2438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es worker have reasonable grounds to believe work  still endangers health and/or safe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501012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pector called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4629240"/>
            <a:ext cx="5634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705200"/>
            <a:ext cx="5652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781520"/>
            <a:ext cx="40140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4705200"/>
            <a:ext cx="479160" cy="17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5391000"/>
            <a:ext cx="3278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spector investigates in presence of worker, employer and worker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presentati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5238720"/>
            <a:ext cx="144792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may be assigned reasonable alternat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92452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ritten 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305400"/>
            <a:ext cx="2895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rrective action if ord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226692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1733400"/>
            <a:ext cx="322200" cy="17172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28004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2576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295320" y="3439080"/>
            <a:ext cx="228600" cy="322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346600">
            <a:off x="3239640" y="3522240"/>
            <a:ext cx="227160" cy="306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714840"/>
            <a:ext cx="342720" cy="133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9434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4705200"/>
            <a:ext cx="322200" cy="17172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5645880" y="4850280"/>
            <a:ext cx="228600" cy="2430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892320" y="4622400"/>
            <a:ext cx="228600" cy="241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5238720"/>
            <a:ext cx="32220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5848200"/>
            <a:ext cx="32256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6153120"/>
            <a:ext cx="32724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8578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4629240"/>
            <a:ext cx="32256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5238720"/>
            <a:ext cx="828720" cy="171360"/>
          </a:xfrm>
          <a:prstGeom prst="leftRightArrow">
            <a:avLst>
              <a:gd name="adj1" fmla="val 50000"/>
              <a:gd name="adj2" fmla="val 962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3562200"/>
            <a:ext cx="80460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7480" y="1758960"/>
            <a:ext cx="8046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800440"/>
            <a:ext cx="874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501012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ight to Refuse Unsafe Work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6591240"/>
            <a:ext cx="428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ewcomers Connecting to Trades Apprenticeship Resources (NeCTA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3713-0DC1-4EE3-AE2C-2FE7052B62BA}" type="slidenum">
              <a:t>1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CFTPT</cp:lastModifiedBy>
  <dcterms:modified xsi:type="dcterms:W3CDTF">2005-08-04T17:24:02Z</dcterms:modified>
  <cp:revision>164</cp:revision>
  <dc:subject/>
  <dc:title>Newcomers Connecting to Trades Apprenticeship Resources (NeCTAR)</dc:title>
</cp:coreProperties>
</file>