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978-63F3-4F88-A663-DF5B9089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718-F879-4908-851D-1A969A4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3CA-49EF-47B7-97FF-9CD52EBC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5E0-9049-4DC3-B810-5580FBE5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27D2-02A1-474D-9083-ADECC862E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54B5D-04CD-4DEF-AF33-36EE286F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33045-D6FA-476A-85CD-5270C58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F8F67-67C1-4B39-95BB-83989FD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B79B-FEF6-4145-A599-24F4D92D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9EF7C-148C-44CE-BD6C-2BA2ECAB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7E4ED-6031-46EF-8E1D-EF86964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734-330E-4E3C-89C0-AA863169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F226-AE0B-4935-A23D-6587AC99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9FAAC-BFCC-4799-A91C-C8C74BF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D4791-40D6-471B-B218-2E5C36A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90BB7-666A-4D61-92CF-4F186896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080A-418C-4704-B06C-84E319434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213-8DA8-41D0-85BE-1B78944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51C-8ADA-4779-B8B7-790F15D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77D-C60E-4ADA-B0DC-3A2A43B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AE0-2063-4437-B6B9-58EEF351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807-0430-467D-AF2A-B144A17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8A4-AD21-4D2D-8E86-6CEA4DC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5DF-059B-428E-B260-985A209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05C-7B40-478E-A033-EB1D65948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954A-E900-4D9C-BE98-4FAA4F5CA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1880" y="456840"/>
            <a:ext cx="56134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267360" y="-8510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09680" y="2311560"/>
            <a:ext cx="3396960" cy="6070320"/>
            <a:chOff x="2209680" y="2311560"/>
            <a:chExt cx="3396960" cy="6070320"/>
          </a:xfrm>
        </p:grpSpPr>
        <p:grpSp>
          <p:nvGrpSpPr>
            <p:cNvPr id="103" name=""/>
            <p:cNvGrpSpPr/>
            <p:nvPr/>
          </p:nvGrpSpPr>
          <p:grpSpPr>
            <a:xfrm>
              <a:off x="2209680" y="2311560"/>
              <a:ext cx="2438280" cy="685800"/>
              <a:chOff x="2209680" y="2311560"/>
              <a:chExt cx="243828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2209680" y="231156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6440" y="242604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.  Visit  Employment Service Provi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09680" y="3556080"/>
              <a:ext cx="2438280" cy="685800"/>
              <a:chOff x="2209680" y="3556080"/>
              <a:chExt cx="2438280" cy="685800"/>
            </a:xfrm>
          </p:grpSpPr>
          <p:sp>
            <p:nvSpPr>
              <p:cNvPr id="107" name=""/>
              <p:cNvSpPr/>
              <p:nvPr/>
            </p:nvSpPr>
            <p:spPr>
              <a:xfrm>
                <a:off x="2209680" y="355608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76440" y="367056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.  Arrange docum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362320" y="4802040"/>
              <a:ext cx="2133360" cy="1371600"/>
              <a:chOff x="2362320" y="4802040"/>
              <a:chExt cx="21333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362320" y="4802040"/>
                <a:ext cx="2133360" cy="137160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95480" y="5168880"/>
                <a:ext cx="1066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cuments in English or Frenc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09680" y="6777000"/>
              <a:ext cx="2438280" cy="685800"/>
              <a:chOff x="2209680" y="6777000"/>
              <a:chExt cx="2438280" cy="685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09680" y="677700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6440" y="689148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.  Get documents transl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>
              <a:stCxn id="104" idx="2"/>
              <a:endCxn id="107" idx="0"/>
            </p:cNvCxnSpPr>
            <p:nvPr/>
          </p:nvCxnSpPr>
          <p:spPr>
            <a:xfrm>
              <a:off x="3429000" y="2997360"/>
              <a:ext cx="360" cy="55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7" idx="2"/>
              <a:endCxn id="110" idx="0"/>
            </p:cNvCxnSpPr>
            <p:nvPr/>
          </p:nvCxnSpPr>
          <p:spPr>
            <a:xfrm>
              <a:off x="3429000" y="424188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2"/>
              <a:endCxn id="113" idx="0"/>
            </p:cNvCxnSpPr>
            <p:nvPr/>
          </p:nvCxnSpPr>
          <p:spPr>
            <a:xfrm>
              <a:off x="3429000" y="6173640"/>
              <a:ext cx="360" cy="60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3429000" y="63244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7760" y="5243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99" idx="2"/>
            </p:cNvCxnSpPr>
            <p:nvPr/>
          </p:nvCxnSpPr>
          <p:spPr>
            <a:xfrm>
              <a:off x="3429000" y="7462800"/>
              <a:ext cx="360" cy="91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3428280" y="5486040"/>
              <a:ext cx="1067400" cy="2894760"/>
            </a:xfrm>
            <a:prstGeom prst="bentConnector4">
              <a:avLst>
                <a:gd name="adj1" fmla="val -104149"/>
                <a:gd name="adj2" fmla="val 812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2959200" y="8048520"/>
              <a:ext cx="457200" cy="304920"/>
              <a:chOff x="2959200" y="8048520"/>
              <a:chExt cx="457200" cy="304920"/>
            </a:xfrm>
          </p:grpSpPr>
          <p:sp>
            <p:nvSpPr>
              <p:cNvPr id="123" name=""/>
              <p:cNvSpPr/>
              <p:nvPr/>
            </p:nvSpPr>
            <p:spPr>
              <a:xfrm>
                <a:off x="2997360" y="804852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9200" y="806436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3428640" y="7834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29000" y="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4B3-A8D1-4BF3-8B18-A3E0D97DA4D1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94280" y="-8564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09680" y="2487600"/>
            <a:ext cx="2438640" cy="685800"/>
            <a:chOff x="2209680" y="2487600"/>
            <a:chExt cx="2438640" cy="685800"/>
          </a:xfrm>
        </p:grpSpPr>
        <p:sp>
          <p:nvSpPr>
            <p:cNvPr id="132" name=""/>
            <p:cNvSpPr/>
            <p:nvPr/>
          </p:nvSpPr>
          <p:spPr>
            <a:xfrm>
              <a:off x="2209680" y="248760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5080" y="251136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Have your skills &amp; experience assessed by  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99556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3571920"/>
            <a:ext cx="2133360" cy="1371600"/>
            <a:chOff x="2362320" y="3571920"/>
            <a:chExt cx="2133360" cy="1371600"/>
          </a:xfrm>
        </p:grpSpPr>
        <p:sp>
          <p:nvSpPr>
            <p:cNvPr id="136" name=""/>
            <p:cNvSpPr/>
            <p:nvPr/>
          </p:nvSpPr>
          <p:spPr>
            <a:xfrm>
              <a:off x="2362320" y="357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5040" y="402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tisfied requiremen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2320" y="5248440"/>
            <a:ext cx="2133360" cy="1371600"/>
            <a:chOff x="2362320" y="5248440"/>
            <a:chExt cx="2133360" cy="1371600"/>
          </a:xfrm>
        </p:grpSpPr>
        <p:sp>
          <p:nvSpPr>
            <p:cNvPr id="139" name=""/>
            <p:cNvSpPr/>
            <p:nvPr/>
          </p:nvSpPr>
          <p:spPr>
            <a:xfrm>
              <a:off x="2362320" y="524844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5040" y="570564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mor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209680" y="7000920"/>
            <a:ext cx="2438640" cy="685800"/>
            <a:chOff x="2209680" y="7000920"/>
            <a:chExt cx="2438640" cy="685800"/>
          </a:xfrm>
        </p:grpSpPr>
        <p:sp>
          <p:nvSpPr>
            <p:cNvPr id="142" name=""/>
            <p:cNvSpPr/>
            <p:nvPr/>
          </p:nvSpPr>
          <p:spPr>
            <a:xfrm>
              <a:off x="2209680" y="700092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5080" y="702468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Obtain further documentation or consult with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28" idx="0"/>
            <a:endCxn id="133" idx="0"/>
          </p:cNvCxnSpPr>
          <p:nvPr/>
        </p:nvCxnSpPr>
        <p:spPr>
          <a:xfrm>
            <a:off x="3428640" y="19807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2" idx="2"/>
            <a:endCxn id="136" idx="0"/>
          </p:cNvCxnSpPr>
          <p:nvPr/>
        </p:nvCxnSpPr>
        <p:spPr>
          <a:xfrm>
            <a:off x="3428640" y="3173040"/>
            <a:ext cx="1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9" idx="0"/>
          </p:cNvCxnSpPr>
          <p:nvPr/>
        </p:nvCxnSpPr>
        <p:spPr>
          <a:xfrm>
            <a:off x="3428640" y="4943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8120" y="49197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49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39" idx="2"/>
            <a:endCxn id="143" idx="0"/>
          </p:cNvCxnSpPr>
          <p:nvPr/>
        </p:nvCxnSpPr>
        <p:spPr>
          <a:xfrm>
            <a:off x="3428640" y="6620040"/>
            <a:ext cx="10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2"/>
            <a:endCxn id="128" idx="2"/>
          </p:cNvCxnSpPr>
          <p:nvPr/>
        </p:nvCxnSpPr>
        <p:spPr>
          <a:xfrm>
            <a:off x="3428640" y="7686360"/>
            <a:ext cx="10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" name=""/>
          <p:cNvGrpSpPr/>
          <p:nvPr/>
        </p:nvGrpSpPr>
        <p:grpSpPr>
          <a:xfrm>
            <a:off x="4791240" y="5181480"/>
            <a:ext cx="1447560" cy="1524240"/>
            <a:chOff x="4791240" y="5181480"/>
            <a:chExt cx="1447560" cy="1524240"/>
          </a:xfrm>
        </p:grpSpPr>
        <p:sp>
          <p:nvSpPr>
            <p:cNvPr id="157" name=""/>
            <p:cNvSpPr/>
            <p:nvPr/>
          </p:nvSpPr>
          <p:spPr>
            <a:xfrm>
              <a:off x="4791240" y="5181480"/>
              <a:ext cx="1447560" cy="1524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7200" y="5303880"/>
              <a:ext cx="129492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y for Apprentice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fer to 2.3 The Apprenticeship Pathwa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>
            <a:stCxn id="139" idx="3"/>
            <a:endCxn id="157" idx="1"/>
          </p:cNvCxnSpPr>
          <p:nvPr/>
        </p:nvCxnSpPr>
        <p:spPr>
          <a:xfrm>
            <a:off x="4495320" y="5934240"/>
            <a:ext cx="2962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600200" y="39909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0000" y="562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36" idx="1"/>
            <a:endCxn id="128" idx="2"/>
          </p:cNvCxnSpPr>
          <p:nvPr/>
        </p:nvCxnSpPr>
        <p:spPr>
          <a:xfrm flipH="1" flipV="1" rot="10800000">
            <a:off x="2361240" y="4257360"/>
            <a:ext cx="1067400" cy="4124880"/>
          </a:xfrm>
          <a:prstGeom prst="bentConnector4">
            <a:avLst>
              <a:gd name="adj1" fmla="val -105802"/>
              <a:gd name="adj2" fmla="val 90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048120" y="800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8686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BB6-3800-401B-B8A7-98495160708A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2514600"/>
            <a:ext cx="2438640" cy="557280"/>
            <a:chOff x="2209680" y="2514600"/>
            <a:chExt cx="2438640" cy="557280"/>
          </a:xfrm>
        </p:grpSpPr>
        <p:sp>
          <p:nvSpPr>
            <p:cNvPr id="169" name=""/>
            <p:cNvSpPr/>
            <p:nvPr/>
          </p:nvSpPr>
          <p:spPr>
            <a:xfrm>
              <a:off x="2209680" y="2514600"/>
              <a:ext cx="243864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5080" y="256536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Apply for C of Q Examination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81280" y="693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62320" y="5641920"/>
            <a:ext cx="2133360" cy="1371600"/>
            <a:chOff x="2362320" y="5641920"/>
            <a:chExt cx="2133360" cy="1371600"/>
          </a:xfrm>
        </p:grpSpPr>
        <p:sp>
          <p:nvSpPr>
            <p:cNvPr id="173" name=""/>
            <p:cNvSpPr/>
            <p:nvPr/>
          </p:nvSpPr>
          <p:spPr>
            <a:xfrm>
              <a:off x="2362320" y="564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5040" y="609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translator for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28800" y="6019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77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80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09680" y="3295800"/>
            <a:ext cx="2438640" cy="556920"/>
            <a:chOff x="2209680" y="3295800"/>
            <a:chExt cx="2438640" cy="556920"/>
          </a:xfrm>
        </p:grpSpPr>
        <p:sp>
          <p:nvSpPr>
            <p:cNvPr id="183" name=""/>
            <p:cNvSpPr/>
            <p:nvPr/>
          </p:nvSpPr>
          <p:spPr>
            <a:xfrm>
              <a:off x="2209680" y="329580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5080" y="334620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Receive authorization to work in your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09680" y="4859280"/>
            <a:ext cx="2438640" cy="556920"/>
            <a:chOff x="2209680" y="4859280"/>
            <a:chExt cx="2438640" cy="556920"/>
          </a:xfrm>
        </p:grpSpPr>
        <p:sp>
          <p:nvSpPr>
            <p:cNvPr id="186" name=""/>
            <p:cNvSpPr/>
            <p:nvPr/>
          </p:nvSpPr>
          <p:spPr>
            <a:xfrm>
              <a:off x="2209680" y="48592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5080" y="50004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Prepare for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09680" y="4078440"/>
            <a:ext cx="2438640" cy="556920"/>
            <a:chOff x="2209680" y="4078440"/>
            <a:chExt cx="2438640" cy="556920"/>
          </a:xfrm>
        </p:grpSpPr>
        <p:sp>
          <p:nvSpPr>
            <p:cNvPr id="189" name=""/>
            <p:cNvSpPr/>
            <p:nvPr/>
          </p:nvSpPr>
          <p:spPr>
            <a:xfrm>
              <a:off x="2209680" y="4078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5080" y="421956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Search for employ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7238880"/>
            <a:ext cx="2438640" cy="556920"/>
            <a:chOff x="2209680" y="7238880"/>
            <a:chExt cx="2438640" cy="556920"/>
          </a:xfrm>
        </p:grpSpPr>
        <p:sp>
          <p:nvSpPr>
            <p:cNvPr id="192" name=""/>
            <p:cNvSpPr/>
            <p:nvPr/>
          </p:nvSpPr>
          <p:spPr>
            <a:xfrm>
              <a:off x="2209680" y="72388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05080" y="73800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.  Source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>
            <a:stCxn id="166" idx="0"/>
            <a:endCxn id="170" idx="0"/>
          </p:cNvCxnSpPr>
          <p:nvPr/>
        </p:nvCxnSpPr>
        <p:spPr>
          <a:xfrm>
            <a:off x="3428640" y="198072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69" idx="2"/>
            <a:endCxn id="183" idx="0"/>
          </p:cNvCxnSpPr>
          <p:nvPr/>
        </p:nvCxnSpPr>
        <p:spPr>
          <a:xfrm>
            <a:off x="3428640" y="307188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4" idx="2"/>
            <a:endCxn id="189" idx="0"/>
          </p:cNvCxnSpPr>
          <p:nvPr/>
        </p:nvCxnSpPr>
        <p:spPr>
          <a:xfrm>
            <a:off x="3428640" y="3803400"/>
            <a:ext cx="1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9" idx="2"/>
            <a:endCxn id="186" idx="0"/>
          </p:cNvCxnSpPr>
          <p:nvPr/>
        </p:nvCxnSpPr>
        <p:spPr>
          <a:xfrm>
            <a:off x="3428640" y="463536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6" idx="2"/>
            <a:endCxn id="173" idx="0"/>
          </p:cNvCxnSpPr>
          <p:nvPr/>
        </p:nvCxnSpPr>
        <p:spPr>
          <a:xfrm>
            <a:off x="3428640" y="541656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3" idx="2"/>
            <a:endCxn id="192" idx="0"/>
          </p:cNvCxnSpPr>
          <p:nvPr/>
        </p:nvCxnSpPr>
        <p:spPr>
          <a:xfrm>
            <a:off x="3428640" y="70135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2"/>
            <a:endCxn id="166" idx="2"/>
          </p:cNvCxnSpPr>
          <p:nvPr/>
        </p:nvCxnSpPr>
        <p:spPr>
          <a:xfrm>
            <a:off x="3428640" y="779580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73" idx="1"/>
            <a:endCxn id="166" idx="2"/>
          </p:cNvCxnSpPr>
          <p:nvPr/>
        </p:nvCxnSpPr>
        <p:spPr>
          <a:xfrm flipH="1" flipV="1" rot="10800000">
            <a:off x="2361240" y="6327360"/>
            <a:ext cx="1067400" cy="2054880"/>
          </a:xfrm>
          <a:prstGeom prst="bentConnector4">
            <a:avLst>
              <a:gd name="adj1" fmla="val -107118"/>
              <a:gd name="adj2" fmla="val 863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124080" y="810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3217320" y="-1166760"/>
            <a:ext cx="4546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8D8-EFF2-4D0D-8D2D-4BE2B044B1D6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194280" y="-116280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72080" y="7238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8039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98880" y="1701720"/>
            <a:ext cx="457200" cy="304920"/>
            <a:chOff x="3098880" y="1701720"/>
            <a:chExt cx="457200" cy="304920"/>
          </a:xfrm>
        </p:grpSpPr>
        <p:sp>
          <p:nvSpPr>
            <p:cNvPr id="211" name=""/>
            <p:cNvSpPr/>
            <p:nvPr/>
          </p:nvSpPr>
          <p:spPr>
            <a:xfrm>
              <a:off x="3137040" y="17017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98880" y="1717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8120" y="8077320"/>
            <a:ext cx="457200" cy="304560"/>
            <a:chOff x="3048120" y="8077320"/>
            <a:chExt cx="457200" cy="304560"/>
          </a:xfrm>
        </p:grpSpPr>
        <p:sp>
          <p:nvSpPr>
            <p:cNvPr id="214" name=""/>
            <p:cNvSpPr/>
            <p:nvPr/>
          </p:nvSpPr>
          <p:spPr>
            <a:xfrm>
              <a:off x="3086280" y="80773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80928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08200" y="4222800"/>
            <a:ext cx="2438280" cy="557280"/>
            <a:chOff x="1708200" y="4222800"/>
            <a:chExt cx="2438280" cy="557280"/>
          </a:xfrm>
        </p:grpSpPr>
        <p:sp>
          <p:nvSpPr>
            <p:cNvPr id="217" name=""/>
            <p:cNvSpPr/>
            <p:nvPr/>
          </p:nvSpPr>
          <p:spPr>
            <a:xfrm>
              <a:off x="1708200" y="422280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3240" y="427356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  Determine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708200" y="5842080"/>
            <a:ext cx="2438280" cy="838080"/>
            <a:chOff x="1708200" y="5842080"/>
            <a:chExt cx="2438280" cy="838080"/>
          </a:xfrm>
        </p:grpSpPr>
        <p:sp>
          <p:nvSpPr>
            <p:cNvPr id="220" name=""/>
            <p:cNvSpPr/>
            <p:nvPr/>
          </p:nvSpPr>
          <p:spPr>
            <a:xfrm>
              <a:off x="1708200" y="5842080"/>
              <a:ext cx="243828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3240" y="5942160"/>
              <a:ext cx="2247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.  Write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C of Q Exam (after a minimum of 15 days from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xam, 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08200" y="2057400"/>
            <a:ext cx="2438280" cy="556920"/>
            <a:chOff x="1708200" y="2057400"/>
            <a:chExt cx="2438280" cy="556920"/>
          </a:xfrm>
        </p:grpSpPr>
        <p:sp>
          <p:nvSpPr>
            <p:cNvPr id="223" name=""/>
            <p:cNvSpPr/>
            <p:nvPr/>
          </p:nvSpPr>
          <p:spPr>
            <a:xfrm>
              <a:off x="1708200" y="2057400"/>
              <a:ext cx="243828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03240" y="2198520"/>
              <a:ext cx="22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.  Write C of Q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11320" y="2867040"/>
            <a:ext cx="1831680" cy="1103400"/>
            <a:chOff x="2011320" y="2867040"/>
            <a:chExt cx="1831680" cy="1103400"/>
          </a:xfrm>
        </p:grpSpPr>
        <p:sp>
          <p:nvSpPr>
            <p:cNvPr id="226" name=""/>
            <p:cNvSpPr/>
            <p:nvPr/>
          </p:nvSpPr>
          <p:spPr>
            <a:xfrm>
              <a:off x="2011320" y="28670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3200" y="3165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rst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708200" y="5032440"/>
            <a:ext cx="2438280" cy="557280"/>
            <a:chOff x="1708200" y="5032440"/>
            <a:chExt cx="2438280" cy="557280"/>
          </a:xfrm>
        </p:grpSpPr>
        <p:sp>
          <p:nvSpPr>
            <p:cNvPr id="229" name=""/>
            <p:cNvSpPr/>
            <p:nvPr/>
          </p:nvSpPr>
          <p:spPr>
            <a:xfrm>
              <a:off x="1708200" y="503244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3240" y="508320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.  Complete work on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41880" y="3165480"/>
            <a:ext cx="1980720" cy="533520"/>
            <a:chOff x="4241880" y="3165480"/>
            <a:chExt cx="1980720" cy="533520"/>
          </a:xfrm>
        </p:grpSpPr>
        <p:sp>
          <p:nvSpPr>
            <p:cNvPr id="232" name=""/>
            <p:cNvSpPr/>
            <p:nvPr/>
          </p:nvSpPr>
          <p:spPr>
            <a:xfrm>
              <a:off x="4241880" y="316548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6280" y="320832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11320" y="6934320"/>
            <a:ext cx="1831680" cy="1103040"/>
            <a:chOff x="2011320" y="6934320"/>
            <a:chExt cx="1831680" cy="1103040"/>
          </a:xfrm>
        </p:grpSpPr>
        <p:sp>
          <p:nvSpPr>
            <p:cNvPr id="235" name=""/>
            <p:cNvSpPr/>
            <p:nvPr/>
          </p:nvSpPr>
          <p:spPr>
            <a:xfrm>
              <a:off x="2011320" y="693432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3200" y="72324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second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9718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23" idx="2"/>
            <a:endCxn id="226" idx="0"/>
          </p:cNvCxnSpPr>
          <p:nvPr/>
        </p:nvCxnSpPr>
        <p:spPr>
          <a:xfrm flipV="1" rot="10800000">
            <a:off x="2926800" y="2614320"/>
            <a:ext cx="108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6" idx="2"/>
            <a:endCxn id="217" idx="0"/>
          </p:cNvCxnSpPr>
          <p:nvPr/>
        </p:nvCxnSpPr>
        <p:spPr>
          <a:xfrm>
            <a:off x="2927160" y="397008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971800" y="3924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6" idx="3"/>
            <a:endCxn id="232" idx="1"/>
          </p:cNvCxnSpPr>
          <p:nvPr/>
        </p:nvCxnSpPr>
        <p:spPr>
          <a:xfrm>
            <a:off x="3843000" y="3419280"/>
            <a:ext cx="39924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3772080" y="3162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7" idx="2"/>
            <a:endCxn id="229" idx="0"/>
          </p:cNvCxnSpPr>
          <p:nvPr/>
        </p:nvCxnSpPr>
        <p:spPr>
          <a:xfrm>
            <a:off x="2927160" y="477972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9" idx="2"/>
            <a:endCxn id="220" idx="0"/>
          </p:cNvCxnSpPr>
          <p:nvPr/>
        </p:nvCxnSpPr>
        <p:spPr>
          <a:xfrm>
            <a:off x="2927160" y="558936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0" idx="2"/>
            <a:endCxn id="235" idx="0"/>
          </p:cNvCxnSpPr>
          <p:nvPr/>
        </p:nvCxnSpPr>
        <p:spPr>
          <a:xfrm>
            <a:off x="2927160" y="668016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921040" y="80136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41880" y="7219800"/>
            <a:ext cx="1980720" cy="533520"/>
            <a:chOff x="4241880" y="7219800"/>
            <a:chExt cx="1980720" cy="533520"/>
          </a:xfrm>
        </p:grpSpPr>
        <p:sp>
          <p:nvSpPr>
            <p:cNvPr id="248" name=""/>
            <p:cNvSpPr/>
            <p:nvPr/>
          </p:nvSpPr>
          <p:spPr>
            <a:xfrm>
              <a:off x="4241880" y="721980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6280" y="72626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5" idx="3"/>
            <a:endCxn id="248" idx="1"/>
          </p:cNvCxnSpPr>
          <p:nvPr/>
        </p:nvCxnSpPr>
        <p:spPr>
          <a:xfrm>
            <a:off x="3843000" y="7486200"/>
            <a:ext cx="39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A37-886D-46A5-A387-92E7CFB597DF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1828800"/>
            <a:ext cx="5790960" cy="655308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672000" y="555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813040" y="2314440"/>
            <a:ext cx="457200" cy="304920"/>
            <a:chOff x="2813040" y="2314440"/>
            <a:chExt cx="457200" cy="304920"/>
          </a:xfrm>
        </p:grpSpPr>
        <p:sp>
          <p:nvSpPr>
            <p:cNvPr id="257" name=""/>
            <p:cNvSpPr/>
            <p:nvPr/>
          </p:nvSpPr>
          <p:spPr>
            <a:xfrm>
              <a:off x="2851200" y="23144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3040" y="2330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42960" y="4105440"/>
            <a:ext cx="2438640" cy="556920"/>
            <a:chOff x="1542960" y="4105440"/>
            <a:chExt cx="2438640" cy="556920"/>
          </a:xfrm>
        </p:grpSpPr>
        <p:sp>
          <p:nvSpPr>
            <p:cNvPr id="260" name=""/>
            <p:cNvSpPr/>
            <p:nvPr/>
          </p:nvSpPr>
          <p:spPr>
            <a:xfrm>
              <a:off x="1542960" y="4105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8360" y="415584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. Write third C of Q Exam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46440" y="5254560"/>
            <a:ext cx="1831680" cy="1103400"/>
            <a:chOff x="1846440" y="5254560"/>
            <a:chExt cx="1831680" cy="1103400"/>
          </a:xfrm>
        </p:grpSpPr>
        <p:sp>
          <p:nvSpPr>
            <p:cNvPr id="263" name=""/>
            <p:cNvSpPr/>
            <p:nvPr/>
          </p:nvSpPr>
          <p:spPr>
            <a:xfrm>
              <a:off x="1846440" y="52545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8320" y="55530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nal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62280" y="2260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91120" y="5538960"/>
            <a:ext cx="1980720" cy="533160"/>
            <a:chOff x="4191120" y="5538960"/>
            <a:chExt cx="1980720" cy="533160"/>
          </a:xfrm>
        </p:grpSpPr>
        <p:sp>
          <p:nvSpPr>
            <p:cNvPr id="267" name=""/>
            <p:cNvSpPr/>
            <p:nvPr/>
          </p:nvSpPr>
          <p:spPr>
            <a:xfrm>
              <a:off x="4191120" y="5538960"/>
              <a:ext cx="1980720" cy="533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5520" y="55814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9" name=""/>
          <p:cNvCxnSpPr>
            <a:stCxn id="263" idx="3"/>
            <a:endCxn id="267" idx="1"/>
          </p:cNvCxnSpPr>
          <p:nvPr/>
        </p:nvCxnSpPr>
        <p:spPr>
          <a:xfrm flipV="1">
            <a:off x="3677760" y="5804640"/>
            <a:ext cx="51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0" name=""/>
          <p:cNvGrpSpPr/>
          <p:nvPr/>
        </p:nvGrpSpPr>
        <p:grpSpPr>
          <a:xfrm>
            <a:off x="1542960" y="2793960"/>
            <a:ext cx="2438640" cy="609480"/>
            <a:chOff x="1542960" y="2793960"/>
            <a:chExt cx="2438640" cy="609480"/>
          </a:xfrm>
        </p:grpSpPr>
        <p:sp>
          <p:nvSpPr>
            <p:cNvPr id="271" name=""/>
            <p:cNvSpPr/>
            <p:nvPr/>
          </p:nvSpPr>
          <p:spPr>
            <a:xfrm>
              <a:off x="1542960" y="2793960"/>
              <a:ext cx="243864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88108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. Work on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42960" y="6908760"/>
            <a:ext cx="2438280" cy="990720"/>
            <a:chOff x="1542960" y="6908760"/>
            <a:chExt cx="2438280" cy="990720"/>
          </a:xfrm>
        </p:grpSpPr>
        <p:sp>
          <p:nvSpPr>
            <p:cNvPr id="274" name=""/>
            <p:cNvSpPr/>
            <p:nvPr/>
          </p:nvSpPr>
          <p:spPr>
            <a:xfrm>
              <a:off x="1542960" y="6908760"/>
              <a:ext cx="2438280" cy="9907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1480" y="6989040"/>
              <a:ext cx="218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.  MTCU Reassessment Explore options/training programs with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6" name=""/>
          <p:cNvCxnSpPr>
            <a:stCxn id="271" idx="2"/>
            <a:endCxn id="261" idx="0"/>
          </p:cNvCxnSpPr>
          <p:nvPr/>
        </p:nvCxnSpPr>
        <p:spPr>
          <a:xfrm>
            <a:off x="2761920" y="3403080"/>
            <a:ext cx="108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2357280" y="6527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63" idx="2"/>
            <a:endCxn id="274" idx="0"/>
          </p:cNvCxnSpPr>
          <p:nvPr/>
        </p:nvCxnSpPr>
        <p:spPr>
          <a:xfrm>
            <a:off x="2761920" y="6357960"/>
            <a:ext cx="10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rot="16200000">
            <a:off x="3232440" y="-1163880"/>
            <a:ext cx="4546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61" idx="2"/>
            <a:endCxn id="263" idx="0"/>
          </p:cNvCxnSpPr>
          <p:nvPr/>
        </p:nvCxnSpPr>
        <p:spPr>
          <a:xfrm flipV="1" rot="10800000">
            <a:off x="2761560" y="4613040"/>
            <a:ext cx="108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6BF-3FF4-4CF3-A372-03D201BC7275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5:26:04Z</dcterms:modified>
  <cp:revision>138</cp:revision>
  <dc:subject/>
  <dc:title>Newcomers Connecting to Trades Apprenticeship Resources (NeCTAR)</dc:title>
</cp:coreProperties>
</file>