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92F9-448E-4785-8D22-B24A28827A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ECEF-6BC0-431C-BE45-8B52BD7E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0AF5-A387-461B-B484-EDB7C3C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614A-AF17-47DA-96A1-D17E078C9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9FA06-5306-4038-89B4-8F8E224D4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9D3A0-8C41-4A70-81E9-C4843E8B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AF9B2-CBB7-425B-809F-3898FDE6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22B30-44CF-4E74-AD55-BFC1DD5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6FB11-93E9-44B5-B732-EF85D929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CCFA1-A73F-435A-B006-4FA20420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A4A31-DC15-4F27-8B5A-47180996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459D-5BE3-44A4-BBA9-3DDD0C8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7BB79-56F4-4D6C-9A41-10AEA5A1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A0298-2388-4FEF-BB15-9CD21853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9AB49-DD20-47C8-9C05-5F22D6C9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A57E5-CE59-482B-BA86-73253A5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E7491-D71E-4E1E-8AA4-45C0E514A5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6D59-EFEA-4FB4-9F7B-09EA75E4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8295-3DA0-4782-ABD7-678FDB40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F64A-485E-43D5-83C8-388BDDDD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08A9-2B5D-4D40-B1C5-F57E0E54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E9C5-56BB-445B-86DD-6A1B0DAC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AB1B-E3E3-4DE7-9D9A-CE0E9E50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BF21-F98C-42FB-917B-6C3E955C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128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128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351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735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20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048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954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467120" y="6324480"/>
            <a:ext cx="14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258480" y="618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7467480" y="6172200"/>
            <a:ext cx="15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5DC-F245-4562-97D1-D472884959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6143760"/>
            <a:ext cx="509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200240"/>
            <a:ext cx="5867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fu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because s/he has reason to believe work endangers health or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96200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orts problem to supervisor/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49552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resentative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52720"/>
            <a:ext cx="5791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investigates in presence of worker and worker represent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409920"/>
            <a:ext cx="2361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the supervisor agree that the situation endangers health and 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40992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56220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48624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638520"/>
            <a:ext cx="52416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72040"/>
            <a:ext cx="2252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takes correctiv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933800"/>
            <a:ext cx="225252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turns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94344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worker have reasonable grounds to believe work  still endangers health and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0101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pector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2924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0520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78152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705200"/>
            <a:ext cx="479160" cy="1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391000"/>
            <a:ext cx="3278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pector investigates in presence of worker, employer and worker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presenta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238720"/>
            <a:ext cx="144792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may be assigned reasonable alternat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245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ritten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305400"/>
            <a:ext cx="2895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rrective action if or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6692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334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2800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2576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295320" y="3439080"/>
            <a:ext cx="228600" cy="322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46600">
            <a:off x="3239640" y="3522240"/>
            <a:ext cx="227160" cy="306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14840"/>
            <a:ext cx="342720" cy="133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43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47052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645880" y="4850280"/>
            <a:ext cx="228600" cy="2430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892320" y="4622400"/>
            <a:ext cx="228600" cy="241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238720"/>
            <a:ext cx="32220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5848200"/>
            <a:ext cx="32256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153120"/>
            <a:ext cx="32724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8578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629240"/>
            <a:ext cx="32256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238720"/>
            <a:ext cx="828720" cy="171360"/>
          </a:xfrm>
          <a:prstGeom prst="leftRightArrow">
            <a:avLst>
              <a:gd name="adj1" fmla="val 50000"/>
              <a:gd name="adj2" fmla="val 962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562200"/>
            <a:ext cx="80460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1758960"/>
            <a:ext cx="804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800440"/>
            <a:ext cx="874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01012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ight to Refuse Unsafe Wor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6591240"/>
            <a:ext cx="428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wcomers Connecting to Trades Apprenticeship Resources (NeCT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C078-6309-458F-A4CD-A11E934517CD}" type="slidenum">
              <a:t>1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3T15:33:23Z</dcterms:modified>
  <cp:revision>164</cp:revision>
  <dc:subject/>
  <dc:title>Newcomers Connecting to Trades Apprenticeship Resources (NeCTAR)</dc:title>
</cp:coreProperties>
</file>