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73B-7F8D-4E97-AC51-86E43DEC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6DC-992B-4EAA-8C4E-45F4FA21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20B7-D9E9-4103-910D-2E8C8FDA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ED49-7C8E-423A-9921-F557A48C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5FBA6-3F67-4A40-A0AD-5DBCF583BA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B644C-64BF-43A4-819E-0E520CE4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5D37A-95FD-45B8-ADFD-8EB374D9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6A603-74DF-4BAE-B1A4-991B8BC9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DF85B-113A-4513-8482-191C56C3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98173-3112-4957-B8A4-450162BB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B7D68-45F8-4DC3-9093-2ACD9F2D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A1B6-F0A8-4C59-AFBF-5C07346E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27CF2-252F-4301-9E18-FED48894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5C7C9-66F7-4B67-A761-E2314DCE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AB3CC-EE23-4612-A480-6D0CA235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308FB-FD72-4266-9EE5-32C9CD20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658E3-5950-479C-BC8A-7F0510A8D1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0B0-0B7F-408C-9A07-AB7484A7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15E-FA76-41F3-8152-025D4A2F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607-C977-4398-BA88-03DAD4D3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36E-19FB-4C5E-87B4-7D50A364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D9D-7CEB-48A4-A839-50744073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F005-42F2-45B0-8862-232F6AEA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8012-C58E-487C-AA97-C5225600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17360"/>
            <a:ext cx="1294920" cy="1295640"/>
            <a:chOff x="76320" y="117360"/>
            <a:chExt cx="1294920" cy="1295640"/>
          </a:xfrm>
        </p:grpSpPr>
        <p:sp>
          <p:nvSpPr>
            <p:cNvPr id="1" name=""/>
            <p:cNvSpPr/>
            <p:nvPr/>
          </p:nvSpPr>
          <p:spPr>
            <a:xfrm>
              <a:off x="401760" y="250560"/>
              <a:ext cx="491760" cy="583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31600" y="250560"/>
              <a:ext cx="367920" cy="58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41800" y="769320"/>
              <a:ext cx="472320" cy="585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57960" y="769320"/>
              <a:ext cx="413280" cy="58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320" y="680040"/>
              <a:ext cx="629280" cy="520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9120" y="117360"/>
              <a:ext cx="35280" cy="1295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31920" y="1063800"/>
            <a:ext cx="61704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71000" y="8432640"/>
            <a:ext cx="125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609120" y="843264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5600880" y="8432640"/>
            <a:ext cx="111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0321-0042-4555-9B07-E91DDA7442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251160"/>
            <a:ext cx="6756120" cy="1402920"/>
            <a:chOff x="0" y="3251160"/>
            <a:chExt cx="6756120" cy="1402920"/>
          </a:xfrm>
        </p:grpSpPr>
        <p:grpSp>
          <p:nvGrpSpPr>
            <p:cNvPr id="50" name=""/>
            <p:cNvGrpSpPr/>
            <p:nvPr/>
          </p:nvGrpSpPr>
          <p:grpSpPr>
            <a:xfrm>
              <a:off x="217800" y="3394800"/>
              <a:ext cx="532800" cy="632880"/>
              <a:chOff x="217800" y="3394800"/>
              <a:chExt cx="532800" cy="632880"/>
            </a:xfrm>
          </p:grpSpPr>
          <p:sp>
            <p:nvSpPr>
              <p:cNvPr id="51" name=""/>
              <p:cNvSpPr/>
              <p:nvPr/>
            </p:nvSpPr>
            <p:spPr>
              <a:xfrm>
                <a:off x="217800" y="3394800"/>
                <a:ext cx="327960" cy="632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04720" y="3394800"/>
                <a:ext cx="2458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10680" y="3957840"/>
              <a:ext cx="552960" cy="632880"/>
              <a:chOff x="310680" y="3957840"/>
              <a:chExt cx="552960" cy="632880"/>
            </a:xfrm>
          </p:grpSpPr>
          <p:sp>
            <p:nvSpPr>
              <p:cNvPr id="54" name=""/>
              <p:cNvSpPr/>
              <p:nvPr/>
            </p:nvSpPr>
            <p:spPr>
              <a:xfrm>
                <a:off x="310680" y="3957840"/>
                <a:ext cx="316080" cy="6328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87160" y="3957840"/>
                <a:ext cx="2764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3860280"/>
              <a:ext cx="420120" cy="562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920" y="3251160"/>
              <a:ext cx="23400" cy="14029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36880" y="4346280"/>
              <a:ext cx="6519240" cy="73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24382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193320" y="8250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5600880" y="8229240"/>
            <a:ext cx="113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5CCD-F11C-49D6-9CE1-FC733ACB6B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8191440"/>
            <a:ext cx="5105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1676520"/>
            <a:ext cx="5790960" cy="6858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Apprenticeship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3420720" y="-1563120"/>
            <a:ext cx="454680" cy="59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.  Apprenticeship Applicatio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339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043600" y="8202600"/>
            <a:ext cx="457200" cy="304920"/>
            <a:chOff x="5043600" y="8202600"/>
            <a:chExt cx="457200" cy="304920"/>
          </a:xfrm>
        </p:grpSpPr>
        <p:sp>
          <p:nvSpPr>
            <p:cNvPr id="104" name=""/>
            <p:cNvSpPr/>
            <p:nvPr/>
          </p:nvSpPr>
          <p:spPr>
            <a:xfrm>
              <a:off x="5081760" y="820260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43600" y="82184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09480" y="3733920"/>
            <a:ext cx="3124440" cy="533160"/>
            <a:chOff x="609480" y="3733920"/>
            <a:chExt cx="3124440" cy="533160"/>
          </a:xfrm>
        </p:grpSpPr>
        <p:sp>
          <p:nvSpPr>
            <p:cNvPr id="107" name=""/>
            <p:cNvSpPr/>
            <p:nvPr/>
          </p:nvSpPr>
          <p:spPr>
            <a:xfrm>
              <a:off x="609480" y="3733920"/>
              <a:ext cx="3124440" cy="5331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0640" y="3852720"/>
              <a:ext cx="310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.  Provide apprenticeship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666800" y="6705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9440" y="2352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19560" y="6081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7640" y="1752480"/>
            <a:ext cx="3047760" cy="1752840"/>
            <a:chOff x="647640" y="1752480"/>
            <a:chExt cx="3047760" cy="1752840"/>
          </a:xfrm>
        </p:grpSpPr>
        <p:sp>
          <p:nvSpPr>
            <p:cNvPr id="113" name=""/>
            <p:cNvSpPr/>
            <p:nvPr/>
          </p:nvSpPr>
          <p:spPr>
            <a:xfrm>
              <a:off x="647640" y="1752480"/>
              <a:ext cx="3047760" cy="17528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69640" y="2127240"/>
              <a:ext cx="2100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lient attempted certification but did not meet assessment requirements or did not pass the 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and Final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038480" y="2438280"/>
            <a:ext cx="1981080" cy="381240"/>
            <a:chOff x="4038480" y="2438280"/>
            <a:chExt cx="1981080" cy="381240"/>
          </a:xfrm>
        </p:grpSpPr>
        <p:sp>
          <p:nvSpPr>
            <p:cNvPr id="116" name=""/>
            <p:cNvSpPr/>
            <p:nvPr/>
          </p:nvSpPr>
          <p:spPr>
            <a:xfrm>
              <a:off x="4038480" y="2438280"/>
              <a:ext cx="1981080" cy="3812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2880" y="2468160"/>
              <a:ext cx="177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rtification Path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143000" y="4559400"/>
            <a:ext cx="2057400" cy="1143000"/>
            <a:chOff x="1143000" y="4559400"/>
            <a:chExt cx="2057400" cy="1143000"/>
          </a:xfrm>
        </p:grpSpPr>
        <p:sp>
          <p:nvSpPr>
            <p:cNvPr id="119" name=""/>
            <p:cNvSpPr/>
            <p:nvPr/>
          </p:nvSpPr>
          <p:spPr>
            <a:xfrm>
              <a:off x="1143000" y="4559400"/>
              <a:ext cx="2057400" cy="11430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7920" y="4732560"/>
              <a:ext cx="1500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lient completed Gr. 12 (Gr. 10-TQAA Trades)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895320" y="7040520"/>
            <a:ext cx="2552760" cy="1338480"/>
            <a:chOff x="895320" y="7040520"/>
            <a:chExt cx="2552760" cy="1338480"/>
          </a:xfrm>
        </p:grpSpPr>
        <p:sp>
          <p:nvSpPr>
            <p:cNvPr id="122" name=""/>
            <p:cNvSpPr/>
            <p:nvPr/>
          </p:nvSpPr>
          <p:spPr>
            <a:xfrm>
              <a:off x="895320" y="7040520"/>
              <a:ext cx="2552760" cy="1338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95320" y="7197840"/>
              <a:ext cx="25527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.  Provide job search and job development support for client to secure apprenticeship sponsor and refer to pre-apprenticeship training.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038480" y="4768920"/>
            <a:ext cx="1981440" cy="723960"/>
            <a:chOff x="4038480" y="4768920"/>
            <a:chExt cx="1981440" cy="723960"/>
          </a:xfrm>
        </p:grpSpPr>
        <p:sp>
          <p:nvSpPr>
            <p:cNvPr id="125" name=""/>
            <p:cNvSpPr/>
            <p:nvPr/>
          </p:nvSpPr>
          <p:spPr>
            <a:xfrm>
              <a:off x="4038480" y="4768920"/>
              <a:ext cx="1981440" cy="7239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43240" y="4902120"/>
              <a:ext cx="1771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fer to Academic Upgra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038480" y="5948280"/>
            <a:ext cx="1981440" cy="771480"/>
            <a:chOff x="4038480" y="5948280"/>
            <a:chExt cx="1981440" cy="771480"/>
          </a:xfrm>
        </p:grpSpPr>
        <p:sp>
          <p:nvSpPr>
            <p:cNvPr id="128" name=""/>
            <p:cNvSpPr/>
            <p:nvPr/>
          </p:nvSpPr>
          <p:spPr>
            <a:xfrm>
              <a:off x="4038480" y="5948280"/>
              <a:ext cx="1981440" cy="77148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43240" y="6080040"/>
              <a:ext cx="1771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vise client to take GED Test.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701880" y="7253280"/>
            <a:ext cx="2552760" cy="914400"/>
            <a:chOff x="3701880" y="7253280"/>
            <a:chExt cx="2552760" cy="914400"/>
          </a:xfrm>
        </p:grpSpPr>
        <p:sp>
          <p:nvSpPr>
            <p:cNvPr id="131" name=""/>
            <p:cNvSpPr/>
            <p:nvPr/>
          </p:nvSpPr>
          <p:spPr>
            <a:xfrm>
              <a:off x="3701880" y="7253280"/>
              <a:ext cx="2552760" cy="9144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01880" y="7282800"/>
              <a:ext cx="2552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.  Register for apprenticeship at MTCU Local Branch Office.  Fill-in application for apprenticeship (Fee: $40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352680" y="4876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81200" y="5667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8172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43000" y="5877000"/>
            <a:ext cx="2057400" cy="914400"/>
            <a:chOff x="1143000" y="5877000"/>
            <a:chExt cx="2057400" cy="914400"/>
          </a:xfrm>
        </p:grpSpPr>
        <p:sp>
          <p:nvSpPr>
            <p:cNvPr id="137" name=""/>
            <p:cNvSpPr/>
            <p:nvPr/>
          </p:nvSpPr>
          <p:spPr>
            <a:xfrm>
              <a:off x="1143000" y="5877000"/>
              <a:ext cx="2057400" cy="914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47920" y="5992920"/>
              <a:ext cx="1500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n client provide academic transcript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9" name=""/>
          <p:cNvCxnSpPr>
            <a:stCxn id="113" idx="2"/>
            <a:endCxn id="107" idx="0"/>
          </p:cNvCxnSpPr>
          <p:nvPr/>
        </p:nvCxnSpPr>
        <p:spPr>
          <a:xfrm>
            <a:off x="2171520" y="3505320"/>
            <a:ext cx="72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07" idx="2"/>
            <a:endCxn id="119" idx="0"/>
          </p:cNvCxnSpPr>
          <p:nvPr/>
        </p:nvCxnSpPr>
        <p:spPr>
          <a:xfrm flipH="1">
            <a:off x="2171520" y="4267080"/>
            <a:ext cx="72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19" idx="2"/>
            <a:endCxn id="137" idx="0"/>
          </p:cNvCxnSpPr>
          <p:nvPr/>
        </p:nvCxnSpPr>
        <p:spPr>
          <a:xfrm>
            <a:off x="2171520" y="5702400"/>
            <a:ext cx="360" cy="17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7" idx="2"/>
            <a:endCxn id="122" idx="0"/>
          </p:cNvCxnSpPr>
          <p:nvPr/>
        </p:nvCxnSpPr>
        <p:spPr>
          <a:xfrm>
            <a:off x="2171520" y="6791400"/>
            <a:ext cx="360" cy="24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13" idx="3"/>
            <a:endCxn id="116" idx="1"/>
          </p:cNvCxnSpPr>
          <p:nvPr/>
        </p:nvCxnSpPr>
        <p:spPr>
          <a:xfrm>
            <a:off x="3695400" y="2629080"/>
            <a:ext cx="343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19" idx="3"/>
            <a:endCxn id="125" idx="1"/>
          </p:cNvCxnSpPr>
          <p:nvPr/>
        </p:nvCxnSpPr>
        <p:spPr>
          <a:xfrm>
            <a:off x="3200400" y="513108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7" idx="3"/>
            <a:endCxn id="128" idx="1"/>
          </p:cNvCxnSpPr>
          <p:nvPr/>
        </p:nvCxnSpPr>
        <p:spPr>
          <a:xfrm>
            <a:off x="3200400" y="633420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3" idx="3"/>
            <a:endCxn id="132" idx="1"/>
          </p:cNvCxnSpPr>
          <p:nvPr/>
        </p:nvCxnSpPr>
        <p:spPr>
          <a:xfrm flipV="1">
            <a:off x="3448080" y="7694640"/>
            <a:ext cx="25416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enticeship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2E2-CC93-4D4F-856B-8476AAA5D794}" type="slidenum">
              <a:t>1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1676520"/>
            <a:ext cx="5790960" cy="6705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Apprenticeship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3306240" y="-1538280"/>
            <a:ext cx="45468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.  Apprenticeship Training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505320" y="7756560"/>
            <a:ext cx="457200" cy="304920"/>
            <a:chOff x="3505320" y="7756560"/>
            <a:chExt cx="457200" cy="304920"/>
          </a:xfrm>
        </p:grpSpPr>
        <p:sp>
          <p:nvSpPr>
            <p:cNvPr id="152" name=""/>
            <p:cNvSpPr/>
            <p:nvPr/>
          </p:nvSpPr>
          <p:spPr>
            <a:xfrm>
              <a:off x="3543480" y="775656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5320" y="77724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028960" y="2727360"/>
            <a:ext cx="2714400" cy="1023840"/>
            <a:chOff x="2028960" y="2727360"/>
            <a:chExt cx="2714400" cy="1023840"/>
          </a:xfrm>
        </p:grpSpPr>
        <p:sp>
          <p:nvSpPr>
            <p:cNvPr id="155" name=""/>
            <p:cNvSpPr/>
            <p:nvPr/>
          </p:nvSpPr>
          <p:spPr>
            <a:xfrm>
              <a:off x="2085840" y="2727360"/>
              <a:ext cx="2552760" cy="102384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28960" y="2906640"/>
              <a:ext cx="27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  Provide trade-specific information about apprenticeship progra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085840" y="4708440"/>
            <a:ext cx="2552760" cy="1059120"/>
            <a:chOff x="2085840" y="4708440"/>
            <a:chExt cx="2552760" cy="1059120"/>
          </a:xfrm>
        </p:grpSpPr>
        <p:sp>
          <p:nvSpPr>
            <p:cNvPr id="158" name=""/>
            <p:cNvSpPr/>
            <p:nvPr/>
          </p:nvSpPr>
          <p:spPr>
            <a:xfrm>
              <a:off x="2085840" y="4708440"/>
              <a:ext cx="2552760" cy="10591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85840" y="4832280"/>
              <a:ext cx="2552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.  Prepare for consultation with Training Consultant and Sponsor/Employer.  Refer to Training Standards Manual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85840" y="6689880"/>
            <a:ext cx="2552760" cy="609480"/>
            <a:chOff x="2085840" y="6689880"/>
            <a:chExt cx="2552760" cy="609480"/>
          </a:xfrm>
        </p:grpSpPr>
        <p:sp>
          <p:nvSpPr>
            <p:cNvPr id="161" name=""/>
            <p:cNvSpPr/>
            <p:nvPr/>
          </p:nvSpPr>
          <p:spPr>
            <a:xfrm>
              <a:off x="2085840" y="6689880"/>
              <a:ext cx="2552760" cy="609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85840" y="6765840"/>
              <a:ext cx="2552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.  Inform about “Fast-tracking” possibilities where applicabl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400560" y="2031840"/>
            <a:ext cx="457200" cy="304920"/>
            <a:chOff x="3400560" y="2031840"/>
            <a:chExt cx="457200" cy="304920"/>
          </a:xfrm>
        </p:grpSpPr>
        <p:sp>
          <p:nvSpPr>
            <p:cNvPr id="164" name=""/>
            <p:cNvSpPr/>
            <p:nvPr/>
          </p:nvSpPr>
          <p:spPr>
            <a:xfrm>
              <a:off x="3438720" y="203184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00560" y="204768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6" name=""/>
          <p:cNvCxnSpPr>
            <a:stCxn id="155" idx="2"/>
            <a:endCxn id="158" idx="0"/>
          </p:cNvCxnSpPr>
          <p:nvPr/>
        </p:nvCxnSpPr>
        <p:spPr>
          <a:xfrm>
            <a:off x="3362040" y="3750840"/>
            <a:ext cx="108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8" idx="2"/>
            <a:endCxn id="161" idx="0"/>
          </p:cNvCxnSpPr>
          <p:nvPr/>
        </p:nvCxnSpPr>
        <p:spPr>
          <a:xfrm>
            <a:off x="3362040" y="5767560"/>
            <a:ext cx="1080" cy="92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3367080" y="1965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7299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enticeship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A15-26B6-4DCF-869B-E2EADACBB7A6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1676520"/>
            <a:ext cx="5790960" cy="6705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Apprenticeship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363480" y="-1509120"/>
            <a:ext cx="45468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I.  Apprenticeship Completio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033640" y="2816280"/>
            <a:ext cx="2552760" cy="1069920"/>
            <a:chOff x="2033640" y="2816280"/>
            <a:chExt cx="2552760" cy="1069920"/>
          </a:xfrm>
        </p:grpSpPr>
        <p:sp>
          <p:nvSpPr>
            <p:cNvPr id="175" name=""/>
            <p:cNvSpPr/>
            <p:nvPr/>
          </p:nvSpPr>
          <p:spPr>
            <a:xfrm>
              <a:off x="2033640" y="2816280"/>
              <a:ext cx="2552760" cy="1069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33640" y="2946240"/>
              <a:ext cx="2552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.  Coach client on apprenticeship maintenance and advocate with Employer if necessary.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033640" y="4797360"/>
            <a:ext cx="2552760" cy="917640"/>
            <a:chOff x="2033640" y="4797360"/>
            <a:chExt cx="2552760" cy="917640"/>
          </a:xfrm>
        </p:grpSpPr>
        <p:sp>
          <p:nvSpPr>
            <p:cNvPr id="178" name=""/>
            <p:cNvSpPr/>
            <p:nvPr/>
          </p:nvSpPr>
          <p:spPr>
            <a:xfrm>
              <a:off x="2033640" y="4797360"/>
              <a:ext cx="2552760" cy="91764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33640" y="4937040"/>
              <a:ext cx="2552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.  Provide C of Q Exam preparation support resource and referral information.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400560" y="2120760"/>
            <a:ext cx="457200" cy="304920"/>
            <a:chOff x="3400560" y="2120760"/>
            <a:chExt cx="457200" cy="304920"/>
          </a:xfrm>
        </p:grpSpPr>
        <p:sp>
          <p:nvSpPr>
            <p:cNvPr id="181" name=""/>
            <p:cNvSpPr/>
            <p:nvPr/>
          </p:nvSpPr>
          <p:spPr>
            <a:xfrm>
              <a:off x="3438720" y="212076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00560" y="21366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"/>
          <p:cNvCxnSpPr>
            <a:stCxn id="175" idx="2"/>
            <a:endCxn id="178" idx="0"/>
          </p:cNvCxnSpPr>
          <p:nvPr/>
        </p:nvCxnSpPr>
        <p:spPr>
          <a:xfrm>
            <a:off x="3309480" y="3885840"/>
            <a:ext cx="1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3281400" y="20541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560" y="6854760"/>
            <a:ext cx="2590560" cy="838440"/>
            <a:chOff x="2014560" y="6854760"/>
            <a:chExt cx="2590560" cy="838440"/>
          </a:xfrm>
        </p:grpSpPr>
        <p:sp>
          <p:nvSpPr>
            <p:cNvPr id="186" name=""/>
            <p:cNvSpPr/>
            <p:nvPr/>
          </p:nvSpPr>
          <p:spPr>
            <a:xfrm>
              <a:off x="2014560" y="6854760"/>
              <a:ext cx="2590560" cy="8384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51000" y="6922800"/>
              <a:ext cx="2317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.  Go to Certification Pathway, Step III. Prepare client for Trade Cert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8" name=""/>
          <p:cNvCxnSpPr>
            <a:stCxn id="178" idx="2"/>
            <a:endCxn id="186" idx="0"/>
          </p:cNvCxnSpPr>
          <p:nvPr/>
        </p:nvCxnSpPr>
        <p:spPr>
          <a:xfrm>
            <a:off x="3309480" y="5715000"/>
            <a:ext cx="1080" cy="114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enticeship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5E13-219C-401F-9BD7-9331266519DC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Apprenticeship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3468240" y="-85176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9040" y="19810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9040" y="19810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5160" y="1981080"/>
            <a:ext cx="5572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67600" y="19810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67600" y="19810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040" y="198756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67600" y="198756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9040" y="2313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5160" y="2313000"/>
            <a:ext cx="682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8080" y="2313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84200" y="2313000"/>
            <a:ext cx="4883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67600" y="2313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9040" y="23194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8080" y="23194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67600" y="23194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9040" y="25686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8080" y="25686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84200" y="2568600"/>
            <a:ext cx="520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25686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11240" y="2568600"/>
            <a:ext cx="4356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67600" y="25686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9040" y="25750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8080" y="25750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25750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67600" y="25750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9040" y="2824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8080" y="2824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2824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67600" y="2824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9040" y="2830680"/>
            <a:ext cx="6120" cy="29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8080" y="2830680"/>
            <a:ext cx="6120" cy="29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2830680"/>
            <a:ext cx="6120" cy="29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67600" y="2830680"/>
            <a:ext cx="6120" cy="29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9040" y="5827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8080" y="5827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5827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11240" y="5827680"/>
            <a:ext cx="4356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67600" y="5827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9040" y="5832360"/>
            <a:ext cx="612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8080" y="5832360"/>
            <a:ext cx="612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5120" y="5832360"/>
            <a:ext cx="612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67600" y="5832360"/>
            <a:ext cx="612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9040" y="60832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8080" y="60832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60832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67600" y="60832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9040" y="6089760"/>
            <a:ext cx="612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8080" y="6089760"/>
            <a:ext cx="612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05120" y="6089760"/>
            <a:ext cx="612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67600" y="6089760"/>
            <a:ext cx="612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9040" y="68756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78080" y="68756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84200" y="6875640"/>
            <a:ext cx="520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68756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11240" y="6875640"/>
            <a:ext cx="4356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7600" y="68756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9040" y="688176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8080" y="688176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67600" y="688176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9040" y="71308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8080" y="71308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84200" y="7130880"/>
            <a:ext cx="520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05120" y="71308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11240" y="7130880"/>
            <a:ext cx="4356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7600" y="71308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9040" y="713736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8080" y="713736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713736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67600" y="713736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9040" y="74628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8080" y="74628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05120" y="74628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67600" y="74628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9040" y="7469280"/>
            <a:ext cx="612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8080" y="7469280"/>
            <a:ext cx="612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7469280"/>
            <a:ext cx="612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67600" y="7469280"/>
            <a:ext cx="612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9040" y="80438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8080" y="80438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80438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67600" y="80438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9040" y="805032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78080" y="805032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05120" y="805032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67600" y="805032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91280" y="2062080"/>
            <a:ext cx="5476320" cy="6466320"/>
            <a:chOff x="791280" y="2062080"/>
            <a:chExt cx="5476320" cy="6466320"/>
          </a:xfrm>
        </p:grpSpPr>
        <p:sp>
          <p:nvSpPr>
            <p:cNvPr id="278" name=""/>
            <p:cNvSpPr/>
            <p:nvPr/>
          </p:nvSpPr>
          <p:spPr>
            <a:xfrm>
              <a:off x="791280" y="2062080"/>
              <a:ext cx="397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I:  Apprenticeship Application Prepa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22480" y="2062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81400" y="2354400"/>
              <a:ext cx="319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1:  Provide Apprenticeship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43280" y="2354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57400" y="261144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63680" y="2611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57560" y="2908440"/>
              <a:ext cx="2346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s Apprenticeship Gloss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92160" y="2908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53240" y="3157560"/>
              <a:ext cx="385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entation Slides:  Trades Apprenticeship in O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89400" y="3157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57920" y="3408480"/>
              <a:ext cx="194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ulation of the Appren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87160" y="3408480"/>
              <a:ext cx="192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ship Trades &amp; the Tra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04160" y="358128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ign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82560" y="3581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50440" y="3832200"/>
              <a:ext cx="161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site Resource 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58920" y="3832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53240" y="4081320"/>
              <a:ext cx="251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renticeship Pathway Flowch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57760" y="4081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02040" y="4081320"/>
              <a:ext cx="1121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ice 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916240" y="4081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51080" y="4330800"/>
              <a:ext cx="3259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entation Slides:  Apprenticeship Path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95760" y="4330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53240" y="4579920"/>
              <a:ext cx="255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renticeship Pathway Flowchar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00600" y="4579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48120" y="4579920"/>
              <a:ext cx="43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79760" y="45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56120" y="4830840"/>
              <a:ext cx="185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renticeship Pathwa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00760" y="4830840"/>
              <a:ext cx="125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ormation She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46720" y="48308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95680" y="4830840"/>
              <a:ext cx="43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25880" y="4830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54680" y="5079960"/>
              <a:ext cx="247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renticeship Pathway Check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16000" y="5079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64400" y="53290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33560" y="5329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71360" y="5329080"/>
              <a:ext cx="3079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Apprenticeship Pathway Fact She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35320" y="5329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58640" y="5578560"/>
              <a:ext cx="3129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ancial Supports and Referral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74800" y="5578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06280" y="587052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76200" y="5873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82480" y="2614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08080" y="616752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72480" y="6167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49880" y="6167520"/>
              <a:ext cx="267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ic Apprenticeship Information 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08840" y="616752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38320" y="6167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37600" y="64008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142720" y="641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06640" y="6667560"/>
              <a:ext cx="39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06600" y="6667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448720" y="6667560"/>
              <a:ext cx="306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Apprenticeship Information Ses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97200" y="6667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78160" y="6918480"/>
              <a:ext cx="348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2:  Provide Apprenticeship Search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38480" y="6918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57400" y="721368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63680" y="7213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64400" y="75470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33560" y="7547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77120" y="7547040"/>
              <a:ext cx="237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Labour Market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40160" y="7547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47200" y="7796160"/>
              <a:ext cx="139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ployer Broch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31760" y="7796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06280" y="808668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78000" y="8086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11240" y="8043840"/>
              <a:ext cx="4356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4880" y="2354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82480" y="714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09520" y="8345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689040" y="82994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78080" y="82994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05120" y="82994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267600" y="82994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9040" y="8305920"/>
            <a:ext cx="6120" cy="25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9040" y="8556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9040" y="8556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5160" y="8556480"/>
            <a:ext cx="682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78080" y="8305920"/>
            <a:ext cx="6120" cy="25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8080" y="8556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84200" y="8556480"/>
            <a:ext cx="520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8305920"/>
            <a:ext cx="6120" cy="25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05120" y="8556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11240" y="8556480"/>
            <a:ext cx="4356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267600" y="8305920"/>
            <a:ext cx="6120" cy="25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267600" y="8556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267600" y="8556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90200" y="85629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enticeship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B41-F7F1-4628-84B3-E2C7726E561F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Apprenticeship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 rot="16200000">
            <a:off x="3468240" y="-85176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0240" y="19810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0240" y="19810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6720" y="1981080"/>
            <a:ext cx="5572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38800" y="19810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38800" y="19810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60240" y="1987560"/>
            <a:ext cx="648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0240" y="23130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66720" y="2313000"/>
            <a:ext cx="6793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46040" y="23130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2520" y="2313000"/>
            <a:ext cx="4886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238800" y="23130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60240" y="2317680"/>
            <a:ext cx="6480" cy="42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60240" y="27417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46040" y="27417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52520" y="2741760"/>
            <a:ext cx="520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73080" y="27417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79560" y="2741760"/>
            <a:ext cx="4359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38800" y="27417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0240" y="2747880"/>
            <a:ext cx="6480" cy="24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3080" y="2747880"/>
            <a:ext cx="6480" cy="24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0240" y="29973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3080" y="29973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0240" y="3003480"/>
            <a:ext cx="6480" cy="10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73080" y="3003480"/>
            <a:ext cx="6480" cy="10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60240" y="4078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46040" y="4078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73080" y="4078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879560" y="4078440"/>
            <a:ext cx="4359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38800" y="4078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0240" y="4084560"/>
            <a:ext cx="6480" cy="24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73080" y="4084560"/>
            <a:ext cx="6480" cy="24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60240" y="4334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73080" y="4334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60240" y="4340160"/>
            <a:ext cx="648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73080" y="4340160"/>
            <a:ext cx="648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0240" y="45910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46040" y="45910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52520" y="4591080"/>
            <a:ext cx="5205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73080" y="45910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79560" y="4591080"/>
            <a:ext cx="4359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238800" y="45910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0240" y="4595760"/>
            <a:ext cx="6480" cy="42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0240" y="50198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46040" y="50198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52520" y="5019840"/>
            <a:ext cx="520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873080" y="50198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79560" y="5019840"/>
            <a:ext cx="4359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38800" y="50198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60240" y="5025960"/>
            <a:ext cx="648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73080" y="5025960"/>
            <a:ext cx="648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60240" y="5351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46040" y="5351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873080" y="5351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238800" y="5351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0240" y="5357880"/>
            <a:ext cx="648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73080" y="5357880"/>
            <a:ext cx="648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0240" y="59324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46040" y="59324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73080" y="59324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79560" y="5932440"/>
            <a:ext cx="4359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238800" y="59324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60240" y="5937120"/>
            <a:ext cx="6480" cy="25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73080" y="5937120"/>
            <a:ext cx="6480" cy="25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0240" y="61898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73080" y="61898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60240" y="6194520"/>
            <a:ext cx="6480" cy="25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0240" y="6445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60240" y="6445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6720" y="6445080"/>
            <a:ext cx="6793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46040" y="6445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352520" y="6445080"/>
            <a:ext cx="5205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73080" y="6194520"/>
            <a:ext cx="6480" cy="25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73080" y="6445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9560" y="6445080"/>
            <a:ext cx="43592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38800" y="6445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238800" y="6445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61400" y="1987560"/>
            <a:ext cx="5485320" cy="4645440"/>
            <a:chOff x="761400" y="1987560"/>
            <a:chExt cx="5485320" cy="4645440"/>
          </a:xfrm>
        </p:grpSpPr>
        <p:sp>
          <p:nvSpPr>
            <p:cNvPr id="445" name=""/>
            <p:cNvSpPr/>
            <p:nvPr/>
          </p:nvSpPr>
          <p:spPr>
            <a:xfrm>
              <a:off x="767160" y="2062080"/>
              <a:ext cx="91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68240" y="2062080"/>
              <a:ext cx="286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I:  Apprenticeship Training Prepa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15120" y="2062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38800" y="1987560"/>
              <a:ext cx="64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447560" y="2354400"/>
              <a:ext cx="161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4:  Provide 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54240" y="2354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00320" y="2354400"/>
              <a:ext cx="3146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cific Information About Apprenticeshi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63880" y="2529000"/>
              <a:ext cx="71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gra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73800" y="252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46040" y="2317680"/>
              <a:ext cx="648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38800" y="2317680"/>
              <a:ext cx="648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25720" y="278604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32360" y="2786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46040" y="274788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38800" y="274788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18400" y="3083040"/>
              <a:ext cx="161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site Resource 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26880" y="3083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225160" y="3332160"/>
              <a:ext cx="247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renticeship Pathway Check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84320" y="3332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33800" y="3581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01880" y="3581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40400" y="3581280"/>
              <a:ext cx="270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Apprenticeship Pathway Fact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30680" y="3581280"/>
              <a:ext cx="37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03280" y="3581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233800" y="383076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01880" y="3830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845440" y="3830760"/>
              <a:ext cx="237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Labour Market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08120" y="3830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346040" y="299736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238800" y="299736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346040" y="3003480"/>
              <a:ext cx="6480" cy="10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38800" y="3003480"/>
              <a:ext cx="6480" cy="10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74240" y="412272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944520" y="4125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46040" y="408456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38800" y="408456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50440" y="2789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76040" y="438156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441520" y="4381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489040" y="438156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31840" y="4381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73960" y="4381560"/>
              <a:ext cx="306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Apprenticeship Information Ses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21000" y="4381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46040" y="433404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38800" y="433404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46040" y="4340160"/>
              <a:ext cx="648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38800" y="4340160"/>
              <a:ext cx="648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53680" y="4632480"/>
              <a:ext cx="45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5:  Prepare for Consultation with Training Consultant 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63880" y="4807080"/>
              <a:ext cx="1358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onsor/Emplo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08840" y="480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46040" y="4595760"/>
              <a:ext cx="648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38800" y="4595760"/>
              <a:ext cx="648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25720" y="510228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132360" y="5102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46040" y="5025960"/>
              <a:ext cx="64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38800" y="5025960"/>
              <a:ext cx="64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34880" y="543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18040" y="543564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01880" y="5435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39320" y="5435640"/>
              <a:ext cx="3079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Apprenticeship Pathway Fact She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03280" y="5435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30200" y="5684760"/>
              <a:ext cx="21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s with Exemption Te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60320" y="568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46040" y="5357880"/>
              <a:ext cx="648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38800" y="5357880"/>
              <a:ext cx="648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74240" y="597528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47040" y="5975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46040" y="5937120"/>
              <a:ext cx="6480" cy="252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238800" y="5937120"/>
              <a:ext cx="6480" cy="252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7160" y="2354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50440" y="5029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77480" y="623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346040" y="618984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238800" y="618984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46040" y="6194520"/>
              <a:ext cx="6480" cy="25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38800" y="6194520"/>
              <a:ext cx="6480" cy="25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61400" y="6450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enticeship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BAE-D79E-49DA-B3A2-21C95612888B}" type="slidenum">
              <a:t>5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Apprenticeship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 rot="16200000">
            <a:off x="3468240" y="-85176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27417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74840" y="27417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380960" y="2741760"/>
            <a:ext cx="520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01880" y="27417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08000" y="2741760"/>
            <a:ext cx="4356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264360" y="27417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01880" y="2747880"/>
            <a:ext cx="6120" cy="24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9973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74840" y="29973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01880" y="29973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64360" y="29973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901880" y="3002040"/>
            <a:ext cx="6120" cy="32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01880" y="33289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901880" y="333540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901880" y="35845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901880" y="359100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901880" y="38401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01880" y="409572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01880" y="410040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01880" y="44258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901880" y="4432320"/>
            <a:ext cx="612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901880" y="50068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01880" y="5011560"/>
            <a:ext cx="612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01880" y="5262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01880" y="5268960"/>
            <a:ext cx="6120" cy="46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01880" y="572940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85800" y="1981080"/>
            <a:ext cx="5584680" cy="3937320"/>
            <a:chOff x="685800" y="1981080"/>
            <a:chExt cx="5584680" cy="3937320"/>
          </a:xfrm>
        </p:grpSpPr>
        <p:sp>
          <p:nvSpPr>
            <p:cNvPr id="552" name=""/>
            <p:cNvSpPr/>
            <p:nvPr/>
          </p:nvSpPr>
          <p:spPr>
            <a:xfrm>
              <a:off x="789840" y="2060640"/>
              <a:ext cx="406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III:  Apprenticeship Completion Prepa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16800" y="2060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5800" y="19810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5800" y="19810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2280" y="1981080"/>
              <a:ext cx="5572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264360" y="198108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264360" y="198108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5800" y="1987560"/>
              <a:ext cx="6480" cy="32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264360" y="1987560"/>
              <a:ext cx="6120" cy="32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477440" y="2354400"/>
              <a:ext cx="423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7:  Coach Client on Apprenticeship Maintenance 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91960" y="2529000"/>
              <a:ext cx="1035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vocate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07880" y="2529000"/>
              <a:ext cx="1684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loyer if Necess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777200" y="252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5800" y="231156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2280" y="2311560"/>
              <a:ext cx="6825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74840" y="231156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80960" y="2311560"/>
              <a:ext cx="488340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64360" y="231156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5800" y="2317680"/>
              <a:ext cx="648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74840" y="2317680"/>
              <a:ext cx="612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64360" y="2317680"/>
              <a:ext cx="612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54160" y="278460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61160" y="2784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5800" y="274788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374840" y="274788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64360" y="274788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249640" y="3081240"/>
              <a:ext cx="3088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uidelines for Apprenticeship Mainten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27280" y="308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5800" y="3002040"/>
              <a:ext cx="6480" cy="32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374840" y="3002040"/>
              <a:ext cx="6120" cy="32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64360" y="3002040"/>
              <a:ext cx="6120" cy="32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003040" y="337356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72960" y="337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85800" y="33289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74840" y="33289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8000" y="3328920"/>
              <a:ext cx="4356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64360" y="33289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5800" y="333540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374840" y="33354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264360" y="33354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79240" y="278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004840" y="363060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69240" y="363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43040" y="3630600"/>
              <a:ext cx="344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renticeship Maintenance Information Ses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974920" y="363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5800" y="35845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74840" y="35845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64360" y="35845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" y="359100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74840" y="35910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264360" y="35910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75280" y="3881520"/>
              <a:ext cx="476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8:  Provide C of Q Exam Preparation Support and Resour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04240" y="3881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5800" y="38401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74840" y="38401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80960" y="3840120"/>
              <a:ext cx="520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08000" y="3840120"/>
              <a:ext cx="4356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64360" y="38401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5800" y="384660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374840" y="38466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264360" y="38466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52000" y="4176720"/>
              <a:ext cx="39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49800" y="4176720"/>
              <a:ext cx="72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161160" y="4176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5800" y="409572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374840" y="409572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380960" y="4095720"/>
              <a:ext cx="5209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08000" y="4095720"/>
              <a:ext cx="43563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64360" y="409572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" y="4100400"/>
              <a:ext cx="64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74840" y="4100400"/>
              <a:ext cx="612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264360" y="4100400"/>
              <a:ext cx="612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342520" y="4510080"/>
              <a:ext cx="352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udy Guide for Certificate of Qualification Exa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51080" y="451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346840" y="4759200"/>
              <a:ext cx="1657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site Resource 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998520" y="4759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5800" y="442584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374840" y="442584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64360" y="442584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5800" y="4432320"/>
              <a:ext cx="648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374840" y="4432320"/>
              <a:ext cx="612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264360" y="4432320"/>
              <a:ext cx="612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003040" y="504972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75480" y="5049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800" y="500688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74840" y="500688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08000" y="5006880"/>
              <a:ext cx="43563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264360" y="500688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5800" y="5011560"/>
              <a:ext cx="648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374840" y="5011560"/>
              <a:ext cx="612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264360" y="5011560"/>
              <a:ext cx="612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92360" y="2354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79240" y="4103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04840" y="531036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69240" y="531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50600" y="5310360"/>
              <a:ext cx="141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am Study Grou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952440" y="5310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002320" y="552132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vidu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686680" y="5521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766240" y="5521320"/>
              <a:ext cx="204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am Preparation Resour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795200" y="5521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5800" y="52624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74840" y="526248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264360" y="526248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5800" y="5268960"/>
              <a:ext cx="648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5800" y="572940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85800" y="572940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92280" y="5729400"/>
              <a:ext cx="6825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374840" y="5268960"/>
              <a:ext cx="612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74840" y="572940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380960" y="5729400"/>
              <a:ext cx="5209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08000" y="5729400"/>
              <a:ext cx="43563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264360" y="5268960"/>
              <a:ext cx="612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264360" y="572940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264360" y="572940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86960" y="5735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enticeship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E5D8-7957-4F23-9D92-B9740C376FB6}" type="slidenum">
              <a:t>6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8:52:31Z</dcterms:created>
  <dc:creator>Jane</dc:creator>
  <dc:description/>
  <dc:language>en-US</dc:language>
  <cp:lastModifiedBy>marymay</cp:lastModifiedBy>
  <dcterms:modified xsi:type="dcterms:W3CDTF">2005-08-25T14:08:07Z</dcterms:modified>
  <cp:revision>185</cp:revision>
  <dc:subject/>
  <dc:title>Newcomers Connecting to Trades Apprenticeship Resources (NeCTAR)</dc:title>
</cp:coreProperties>
</file>