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11B-72C1-48CF-9B3F-E17CC9D8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771-602E-42E0-B9E1-A93E3E84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D98-1B59-434C-AF10-07589083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8A4-40A3-4510-A808-CBC68CA0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2A113-28DC-45B9-BA14-8E4B3CFCE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75BFC-BEA4-4DCD-90B9-C6B57BB6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97C8E-C6A4-4E66-BD6E-DECAAB36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4FD9B-014B-4AB4-AD8E-2C2AB9B1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EE2CF-104D-40ED-BB0C-C62090C0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743DE-31FB-4587-AEE4-EEA2CC5E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306D3-2720-4920-9FE1-9ADBCD7A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BBF-926C-4B09-BC80-9438CE1E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2D5FC-5A91-4B94-842B-DFBDB64D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A7E14-8EDE-4EA2-8B49-C019D4EC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7FCEE-3268-469F-97CA-ECF3EDEF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BD09A-5A47-4464-8F0B-A4C77399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72499-0D2F-481D-82C2-CF9687B61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9AB-01E8-45BE-8A55-82BCD814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F60-E9EC-4096-A6DA-BF448A21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12A-0974-4877-A337-D2EFA861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EC1-514D-494A-A3D9-B47A162B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2C0-6803-45BE-BF13-89AAC871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5D9-037C-4004-9E80-FB78E603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B74-3CA1-420B-A733-74552761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38332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95C8-05E1-4C03-88BC-3ABBB29A97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7A80-A917-4958-9C9F-6BB16D2678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84480" y="802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157920" y="-1028880"/>
            <a:ext cx="45468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MTCU Assessment Prepa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60480" y="1727280"/>
            <a:ext cx="2447640" cy="685800"/>
            <a:chOff x="960480" y="1727280"/>
            <a:chExt cx="2447640" cy="685800"/>
          </a:xfrm>
        </p:grpSpPr>
        <p:sp>
          <p:nvSpPr>
            <p:cNvPr id="104" name=""/>
            <p:cNvSpPr/>
            <p:nvPr/>
          </p:nvSpPr>
          <p:spPr>
            <a:xfrm>
              <a:off x="960480" y="1727280"/>
              <a:ext cx="24476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27960" y="1841760"/>
              <a:ext cx="1912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Review Doc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90560" y="5224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68280" y="2733840"/>
            <a:ext cx="1831680" cy="1103040"/>
            <a:chOff x="1268280" y="2733840"/>
            <a:chExt cx="1831680" cy="1103040"/>
          </a:xfrm>
        </p:grpSpPr>
        <p:sp>
          <p:nvSpPr>
            <p:cNvPr id="108" name=""/>
            <p:cNvSpPr/>
            <p:nvPr/>
          </p:nvSpPr>
          <p:spPr>
            <a:xfrm>
              <a:off x="1268280" y="2733840"/>
              <a:ext cx="1831680" cy="11030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60160" y="303192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uments in English or French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9880" y="4317840"/>
            <a:ext cx="2133720" cy="762120"/>
            <a:chOff x="3809880" y="4317840"/>
            <a:chExt cx="2133720" cy="762120"/>
          </a:xfrm>
        </p:grpSpPr>
        <p:sp>
          <p:nvSpPr>
            <p:cNvPr id="111" name=""/>
            <p:cNvSpPr/>
            <p:nvPr/>
          </p:nvSpPr>
          <p:spPr>
            <a:xfrm>
              <a:off x="3809880" y="4317840"/>
              <a:ext cx="213372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1520" y="4467240"/>
              <a:ext cx="199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ise on obtaining doc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68280" y="4143240"/>
            <a:ext cx="1831680" cy="1103400"/>
            <a:chOff x="1268280" y="4143240"/>
            <a:chExt cx="1831680" cy="1103400"/>
          </a:xfrm>
        </p:grpSpPr>
        <p:sp>
          <p:nvSpPr>
            <p:cNvPr id="114" name=""/>
            <p:cNvSpPr/>
            <p:nvPr/>
          </p:nvSpPr>
          <p:spPr>
            <a:xfrm>
              <a:off x="1268280" y="414324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60160" y="44416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omplete documentatio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86200" y="2943360"/>
            <a:ext cx="2057400" cy="685800"/>
            <a:chOff x="3886200" y="2943360"/>
            <a:chExt cx="2057400" cy="685800"/>
          </a:xfrm>
        </p:grpSpPr>
        <p:sp>
          <p:nvSpPr>
            <p:cNvPr id="117" name=""/>
            <p:cNvSpPr/>
            <p:nvPr/>
          </p:nvSpPr>
          <p:spPr>
            <a:xfrm>
              <a:off x="3886200" y="2943360"/>
              <a:ext cx="205740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3360" y="3146400"/>
              <a:ext cx="16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 to Transl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9" name=""/>
          <p:cNvCxnSpPr>
            <a:stCxn id="108" idx="3"/>
            <a:endCxn id="117" idx="1"/>
          </p:cNvCxnSpPr>
          <p:nvPr/>
        </p:nvCxnSpPr>
        <p:spPr>
          <a:xfrm>
            <a:off x="3099960" y="3285360"/>
            <a:ext cx="78660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927000" y="5638680"/>
            <a:ext cx="2514600" cy="971640"/>
            <a:chOff x="927000" y="5638680"/>
            <a:chExt cx="2514600" cy="971640"/>
          </a:xfrm>
        </p:grpSpPr>
        <p:sp>
          <p:nvSpPr>
            <p:cNvPr id="121" name=""/>
            <p:cNvSpPr/>
            <p:nvPr/>
          </p:nvSpPr>
          <p:spPr>
            <a:xfrm>
              <a:off x="927000" y="5638680"/>
              <a:ext cx="2514600" cy="9144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7000" y="5786280"/>
              <a:ext cx="25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Provide Certification Information and Administer Self-assessment Tools.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67652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48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2320" y="4462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7" idx="3"/>
            <a:endCxn id="121" idx="3"/>
          </p:cNvCxnSpPr>
          <p:nvPr/>
        </p:nvCxnSpPr>
        <p:spPr>
          <a:xfrm flipH="1">
            <a:off x="3441600" y="3286440"/>
            <a:ext cx="2502360" cy="2809800"/>
          </a:xfrm>
          <a:prstGeom prst="bentConnector3">
            <a:avLst>
              <a:gd name="adj1" fmla="val -92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87692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44680" y="8067600"/>
            <a:ext cx="457200" cy="304920"/>
            <a:chOff x="2344680" y="8067600"/>
            <a:chExt cx="457200" cy="304920"/>
          </a:xfrm>
        </p:grpSpPr>
        <p:sp>
          <p:nvSpPr>
            <p:cNvPr id="129" name=""/>
            <p:cNvSpPr/>
            <p:nvPr/>
          </p:nvSpPr>
          <p:spPr>
            <a:xfrm>
              <a:off x="2382840" y="80676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4680" y="8083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27000" y="6978600"/>
            <a:ext cx="2514600" cy="1066680"/>
            <a:chOff x="927000" y="6978600"/>
            <a:chExt cx="2514600" cy="1066680"/>
          </a:xfrm>
        </p:grpSpPr>
        <p:sp>
          <p:nvSpPr>
            <p:cNvPr id="132" name=""/>
            <p:cNvSpPr/>
            <p:nvPr/>
          </p:nvSpPr>
          <p:spPr>
            <a:xfrm>
              <a:off x="927000" y="6978600"/>
              <a:ext cx="2514600" cy="10666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27080" y="7189920"/>
              <a:ext cx="2316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 Refer to Apprenticeship Branch Office and coach on assessment interview.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4" name=""/>
          <p:cNvCxnSpPr>
            <a:stCxn id="104" idx="2"/>
            <a:endCxn id="108" idx="0"/>
          </p:cNvCxnSpPr>
          <p:nvPr/>
        </p:nvCxnSpPr>
        <p:spPr>
          <a:xfrm flipH="1">
            <a:off x="2184120" y="2413080"/>
            <a:ext cx="72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08" idx="2"/>
            <a:endCxn id="114" idx="0"/>
          </p:cNvCxnSpPr>
          <p:nvPr/>
        </p:nvCxnSpPr>
        <p:spPr>
          <a:xfrm>
            <a:off x="2184120" y="3836880"/>
            <a:ext cx="3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4" idx="2"/>
            <a:endCxn id="121" idx="0"/>
          </p:cNvCxnSpPr>
          <p:nvPr/>
        </p:nvCxnSpPr>
        <p:spPr>
          <a:xfrm>
            <a:off x="2184120" y="5246640"/>
            <a:ext cx="720" cy="39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1" idx="2"/>
            <a:endCxn id="132" idx="0"/>
          </p:cNvCxnSpPr>
          <p:nvPr/>
        </p:nvCxnSpPr>
        <p:spPr>
          <a:xfrm>
            <a:off x="2184480" y="6553080"/>
            <a:ext cx="3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4" idx="3"/>
            <a:endCxn id="111" idx="1"/>
          </p:cNvCxnSpPr>
          <p:nvPr/>
        </p:nvCxnSpPr>
        <p:spPr>
          <a:xfrm>
            <a:off x="3099960" y="4695120"/>
            <a:ext cx="71028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FE8-B088-4033-9AAA-3063212E15EE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86160" y="784692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25600" y="-1176120"/>
            <a:ext cx="45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Temporary 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7932600"/>
            <a:ext cx="457200" cy="304920"/>
            <a:chOff x="2587680" y="7932600"/>
            <a:chExt cx="457200" cy="304920"/>
          </a:xfrm>
        </p:grpSpPr>
        <p:sp>
          <p:nvSpPr>
            <p:cNvPr id="145" name=""/>
            <p:cNvSpPr/>
            <p:nvPr/>
          </p:nvSpPr>
          <p:spPr>
            <a:xfrm>
              <a:off x="2625840" y="79326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87680" y="7948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73160" y="1755720"/>
            <a:ext cx="2806560" cy="1752480"/>
            <a:chOff x="1073160" y="1755720"/>
            <a:chExt cx="2806560" cy="1752480"/>
          </a:xfrm>
        </p:grpSpPr>
        <p:sp>
          <p:nvSpPr>
            <p:cNvPr id="148" name=""/>
            <p:cNvSpPr/>
            <p:nvPr/>
          </p:nvSpPr>
          <p:spPr>
            <a:xfrm>
              <a:off x="1073160" y="1755720"/>
              <a:ext cx="2806560" cy="17524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17320" y="2128680"/>
              <a:ext cx="2133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satisfied requirements of assessment interview, and received permission to challenge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219560" y="2216160"/>
            <a:ext cx="1752480" cy="831600"/>
            <a:chOff x="4219560" y="2216160"/>
            <a:chExt cx="1752480" cy="831600"/>
          </a:xfrm>
        </p:grpSpPr>
        <p:sp>
          <p:nvSpPr>
            <p:cNvPr id="151" name=""/>
            <p:cNvSpPr/>
            <p:nvPr/>
          </p:nvSpPr>
          <p:spPr>
            <a:xfrm>
              <a:off x="4219560" y="2216160"/>
              <a:ext cx="1752480" cy="831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1080" y="2354760"/>
              <a:ext cx="136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 to Apprenticeship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76240" y="3809880"/>
            <a:ext cx="3200400" cy="685800"/>
            <a:chOff x="876240" y="3809880"/>
            <a:chExt cx="3200400" cy="685800"/>
          </a:xfrm>
        </p:grpSpPr>
        <p:sp>
          <p:nvSpPr>
            <p:cNvPr id="154" name=""/>
            <p:cNvSpPr/>
            <p:nvPr/>
          </p:nvSpPr>
          <p:spPr>
            <a:xfrm>
              <a:off x="936720" y="3809880"/>
              <a:ext cx="30812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6240" y="3851280"/>
              <a:ext cx="3200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Prepare C of Q exam preparation support, resource   and referral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95480" y="5757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376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343400" y="1676520"/>
            <a:ext cx="457200" cy="304560"/>
            <a:chOff x="4343400" y="1676520"/>
            <a:chExt cx="457200" cy="304560"/>
          </a:xfrm>
        </p:grpSpPr>
        <p:sp>
          <p:nvSpPr>
            <p:cNvPr id="159" name=""/>
            <p:cNvSpPr/>
            <p:nvPr/>
          </p:nvSpPr>
          <p:spPr>
            <a:xfrm>
              <a:off x="4381560" y="1676520"/>
              <a:ext cx="342720" cy="304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1692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14400" y="6039000"/>
            <a:ext cx="3124080" cy="685800"/>
            <a:chOff x="914400" y="6039000"/>
            <a:chExt cx="3124080" cy="685800"/>
          </a:xfrm>
        </p:grpSpPr>
        <p:sp>
          <p:nvSpPr>
            <p:cNvPr id="162" name=""/>
            <p:cNvSpPr/>
            <p:nvPr/>
          </p:nvSpPr>
          <p:spPr>
            <a:xfrm>
              <a:off x="914400" y="6039000"/>
              <a:ext cx="312408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84320" y="6156360"/>
              <a:ext cx="27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Coach client on job search and provide job development support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914400" y="7086600"/>
            <a:ext cx="3124080" cy="762120"/>
            <a:chOff x="914400" y="7086600"/>
            <a:chExt cx="3124080" cy="762120"/>
          </a:xfrm>
        </p:grpSpPr>
        <p:sp>
          <p:nvSpPr>
            <p:cNvPr id="165" name=""/>
            <p:cNvSpPr/>
            <p:nvPr/>
          </p:nvSpPr>
          <p:spPr>
            <a:xfrm>
              <a:off x="914400" y="7086600"/>
              <a:ext cx="31240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4320" y="7132680"/>
              <a:ext cx="2784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Provide Trade-Specific Information and Referral, Health &amp; Safety, LMI &amp; Union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81160" y="4789440"/>
            <a:ext cx="2590920" cy="990720"/>
            <a:chOff x="1181160" y="4789440"/>
            <a:chExt cx="2590920" cy="990720"/>
          </a:xfrm>
        </p:grpSpPr>
        <p:sp>
          <p:nvSpPr>
            <p:cNvPr id="168" name=""/>
            <p:cNvSpPr/>
            <p:nvPr/>
          </p:nvSpPr>
          <p:spPr>
            <a:xfrm>
              <a:off x="1181160" y="4789440"/>
              <a:ext cx="2590920" cy="9907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24160" y="5022720"/>
              <a:ext cx="2133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received authorization to work in the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23920" y="3438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502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48" idx="2"/>
            <a:endCxn id="155" idx="0"/>
          </p:cNvCxnSpPr>
          <p:nvPr/>
        </p:nvCxnSpPr>
        <p:spPr>
          <a:xfrm>
            <a:off x="2476080" y="3507840"/>
            <a:ext cx="10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48" idx="3"/>
            <a:endCxn id="151" idx="1"/>
          </p:cNvCxnSpPr>
          <p:nvPr/>
        </p:nvCxnSpPr>
        <p:spPr>
          <a:xfrm>
            <a:off x="3879720" y="2631600"/>
            <a:ext cx="34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4" idx="2"/>
            <a:endCxn id="168" idx="0"/>
          </p:cNvCxnSpPr>
          <p:nvPr/>
        </p:nvCxnSpPr>
        <p:spPr>
          <a:xfrm flipH="1">
            <a:off x="2475720" y="4495680"/>
            <a:ext cx="252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8" idx="2"/>
            <a:endCxn id="162" idx="0"/>
          </p:cNvCxnSpPr>
          <p:nvPr/>
        </p:nvCxnSpPr>
        <p:spPr>
          <a:xfrm>
            <a:off x="2476080" y="5779800"/>
            <a:ext cx="1080" cy="2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8" idx="3"/>
            <a:endCxn id="151" idx="2"/>
          </p:cNvCxnSpPr>
          <p:nvPr/>
        </p:nvCxnSpPr>
        <p:spPr>
          <a:xfrm flipV="1">
            <a:off x="3771720" y="3047400"/>
            <a:ext cx="1324440" cy="22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2" idx="2"/>
            <a:endCxn id="165" idx="0"/>
          </p:cNvCxnSpPr>
          <p:nvPr/>
        </p:nvCxnSpPr>
        <p:spPr>
          <a:xfrm>
            <a:off x="2476080" y="67244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304-00E7-49F0-A705-F9145871A310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163680" y="-1042200"/>
            <a:ext cx="45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Trade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62120" y="5638680"/>
            <a:ext cx="1904760" cy="609480"/>
            <a:chOff x="762120" y="5638680"/>
            <a:chExt cx="1904760" cy="609480"/>
          </a:xfrm>
        </p:grpSpPr>
        <p:sp>
          <p:nvSpPr>
            <p:cNvPr id="183" name=""/>
            <p:cNvSpPr/>
            <p:nvPr/>
          </p:nvSpPr>
          <p:spPr>
            <a:xfrm>
              <a:off x="762120" y="5638680"/>
              <a:ext cx="19047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9240" y="574488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311640" y="1855800"/>
            <a:ext cx="2895480" cy="735120"/>
            <a:chOff x="3311640" y="1855800"/>
            <a:chExt cx="2895480" cy="735120"/>
          </a:xfrm>
        </p:grpSpPr>
        <p:sp>
          <p:nvSpPr>
            <p:cNvPr id="186" name=""/>
            <p:cNvSpPr/>
            <p:nvPr/>
          </p:nvSpPr>
          <p:spPr>
            <a:xfrm>
              <a:off x="3311640" y="1855800"/>
              <a:ext cx="2895480" cy="735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1640" y="1905120"/>
              <a:ext cx="2895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b. Advise client to determine areas of improvement: can write exam again after a minimum of 15 day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26684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24040" y="2271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28800" y="1676520"/>
            <a:ext cx="457200" cy="304560"/>
            <a:chOff x="1828800" y="1676520"/>
            <a:chExt cx="457200" cy="304560"/>
          </a:xfrm>
        </p:grpSpPr>
        <p:sp>
          <p:nvSpPr>
            <p:cNvPr id="191" name=""/>
            <p:cNvSpPr/>
            <p:nvPr/>
          </p:nvSpPr>
          <p:spPr>
            <a:xfrm>
              <a:off x="1866960" y="1676520"/>
              <a:ext cx="342720" cy="304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28800" y="1692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463920" y="4400640"/>
            <a:ext cx="2590560" cy="838080"/>
            <a:chOff x="3463920" y="4400640"/>
            <a:chExt cx="2590560" cy="838080"/>
          </a:xfrm>
        </p:grpSpPr>
        <p:sp>
          <p:nvSpPr>
            <p:cNvPr id="194" name=""/>
            <p:cNvSpPr/>
            <p:nvPr/>
          </p:nvSpPr>
          <p:spPr>
            <a:xfrm>
              <a:off x="3463920" y="4400640"/>
              <a:ext cx="2590560" cy="8380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05760" y="4496040"/>
              <a:ext cx="2306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b.  Advise client to work on improvement areas to  attempt a third exam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98480" y="1828800"/>
            <a:ext cx="1831680" cy="1447920"/>
            <a:chOff x="798480" y="1828800"/>
            <a:chExt cx="1831680" cy="1447920"/>
          </a:xfrm>
        </p:grpSpPr>
        <p:sp>
          <p:nvSpPr>
            <p:cNvPr id="197" name=""/>
            <p:cNvSpPr/>
            <p:nvPr/>
          </p:nvSpPr>
          <p:spPr>
            <a:xfrm>
              <a:off x="798480" y="1828800"/>
              <a:ext cx="1831680" cy="14479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19160" y="209880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passed 1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ttempt at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6705720"/>
            <a:ext cx="2057400" cy="914400"/>
            <a:chOff x="685800" y="6705720"/>
            <a:chExt cx="2057400" cy="914400"/>
          </a:xfrm>
        </p:grpSpPr>
        <p:sp>
          <p:nvSpPr>
            <p:cNvPr id="200" name=""/>
            <p:cNvSpPr/>
            <p:nvPr/>
          </p:nvSpPr>
          <p:spPr>
            <a:xfrm>
              <a:off x="685800" y="6705720"/>
              <a:ext cx="2057400" cy="914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8120" y="6840360"/>
              <a:ext cx="2025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a.  Provide job-search coaching and job-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43360" y="2765520"/>
            <a:ext cx="1831680" cy="1447560"/>
            <a:chOff x="3843360" y="2765520"/>
            <a:chExt cx="1831680" cy="1447560"/>
          </a:xfrm>
        </p:grpSpPr>
        <p:sp>
          <p:nvSpPr>
            <p:cNvPr id="203" name=""/>
            <p:cNvSpPr/>
            <p:nvPr/>
          </p:nvSpPr>
          <p:spPr>
            <a:xfrm>
              <a:off x="3843360" y="2765520"/>
              <a:ext cx="1831680" cy="14475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4040" y="303516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passed 2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attempt at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843360" y="5403960"/>
            <a:ext cx="1831680" cy="1447560"/>
            <a:chOff x="3843360" y="5403960"/>
            <a:chExt cx="1831680" cy="1447560"/>
          </a:xfrm>
        </p:grpSpPr>
        <p:sp>
          <p:nvSpPr>
            <p:cNvPr id="206" name=""/>
            <p:cNvSpPr/>
            <p:nvPr/>
          </p:nvSpPr>
          <p:spPr>
            <a:xfrm>
              <a:off x="3843360" y="5403960"/>
              <a:ext cx="1831680" cy="14475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040" y="567360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passed 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ttempt at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416400" y="7101000"/>
            <a:ext cx="2705040" cy="1168200"/>
            <a:chOff x="3416400" y="7101000"/>
            <a:chExt cx="2705040" cy="1168200"/>
          </a:xfrm>
        </p:grpSpPr>
        <p:sp>
          <p:nvSpPr>
            <p:cNvPr id="209" name=""/>
            <p:cNvSpPr/>
            <p:nvPr/>
          </p:nvSpPr>
          <p:spPr>
            <a:xfrm>
              <a:off x="3429000" y="7101000"/>
              <a:ext cx="2666880" cy="1168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16400" y="7201080"/>
              <a:ext cx="2705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b.  Explore other options and related trades and provide information and referral.  Client  is REASSESSED at the branch office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197" idx="2"/>
            <a:endCxn id="183" idx="0"/>
          </p:cNvCxnSpPr>
          <p:nvPr/>
        </p:nvCxnSpPr>
        <p:spPr>
          <a:xfrm>
            <a:off x="1714320" y="3276360"/>
            <a:ext cx="108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83" idx="2"/>
            <a:endCxn id="200" idx="0"/>
          </p:cNvCxnSpPr>
          <p:nvPr/>
        </p:nvCxnSpPr>
        <p:spPr>
          <a:xfrm>
            <a:off x="1714320" y="62485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86" idx="2"/>
            <a:endCxn id="203" idx="0"/>
          </p:cNvCxnSpPr>
          <p:nvPr/>
        </p:nvCxnSpPr>
        <p:spPr>
          <a:xfrm>
            <a:off x="4758840" y="259056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3" idx="2"/>
            <a:endCxn id="194" idx="0"/>
          </p:cNvCxnSpPr>
          <p:nvPr/>
        </p:nvCxnSpPr>
        <p:spPr>
          <a:xfrm>
            <a:off x="4758840" y="4212720"/>
            <a:ext cx="108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194" idx="2"/>
            <a:endCxn id="206" idx="0"/>
          </p:cNvCxnSpPr>
          <p:nvPr/>
        </p:nvCxnSpPr>
        <p:spPr>
          <a:xfrm>
            <a:off x="4758840" y="523836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6" idx="2"/>
            <a:endCxn id="209" idx="0"/>
          </p:cNvCxnSpPr>
          <p:nvPr/>
        </p:nvCxnSpPr>
        <p:spPr>
          <a:xfrm>
            <a:off x="4758840" y="6851160"/>
            <a:ext cx="3960" cy="2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4780080" y="4108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82960" y="681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03" idx="1"/>
            <a:endCxn id="183" idx="3"/>
          </p:cNvCxnSpPr>
          <p:nvPr/>
        </p:nvCxnSpPr>
        <p:spPr>
          <a:xfrm flipV="1" rot="10800000">
            <a:off x="2666160" y="3488040"/>
            <a:ext cx="1177200" cy="245448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endCxn id="183" idx="3"/>
          </p:cNvCxnSpPr>
          <p:nvPr/>
        </p:nvCxnSpPr>
        <p:spPr>
          <a:xfrm rot="10800000">
            <a:off x="2666160" y="5942880"/>
            <a:ext cx="1177200" cy="20088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3378240" y="3567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71760" y="5883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197" idx="3"/>
            <a:endCxn id="187" idx="1"/>
          </p:cNvCxnSpPr>
          <p:nvPr/>
        </p:nvCxnSpPr>
        <p:spPr>
          <a:xfrm flipV="1">
            <a:off x="2630520" y="2224800"/>
            <a:ext cx="681840" cy="32796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304920" y="8730720"/>
            <a:ext cx="3429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3C0-D108-4526-9392-8E3DACE38A9A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0240" y="2057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0240" y="2057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0240" y="20638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240" y="231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6720" y="2313000"/>
            <a:ext cx="682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49280" y="231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55760" y="2313000"/>
            <a:ext cx="4883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38800" y="231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0240" y="23194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49280" y="23194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024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4928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55760" y="2568600"/>
            <a:ext cx="519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88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1360" y="2568600"/>
            <a:ext cx="4357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3880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25732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49280" y="25732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74880" y="25732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4928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7488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3880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0240" y="2828880"/>
            <a:ext cx="648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49280" y="2828880"/>
            <a:ext cx="648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74880" y="2828880"/>
            <a:ext cx="648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24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4928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488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81360" y="329076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3880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32972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49280" y="32972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4880" y="32972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024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4928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7488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3880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0240" y="35528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49280" y="35528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5528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024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4928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55760" y="3801960"/>
            <a:ext cx="519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488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81360" y="380196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880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0240" y="3808440"/>
            <a:ext cx="648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49280" y="3808440"/>
            <a:ext cx="648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0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4928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55760" y="4230720"/>
            <a:ext cx="519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7488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81360" y="423072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388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0240" y="4237200"/>
            <a:ext cx="64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49280" y="4237200"/>
            <a:ext cx="64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74880" y="4237200"/>
            <a:ext cx="64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024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4928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7488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880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0240" y="4567320"/>
            <a:ext cx="6480" cy="24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49280" y="4567320"/>
            <a:ext cx="6480" cy="24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74880" y="4567320"/>
            <a:ext cx="6480" cy="24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024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4928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7488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81360" y="698328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3880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0240" y="698976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698976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74880" y="698976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024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928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7488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3880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0240" y="7245360"/>
            <a:ext cx="648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024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024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49280" y="7245360"/>
            <a:ext cx="648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4928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74880" y="7245360"/>
            <a:ext cx="648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7488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66720" y="2057400"/>
            <a:ext cx="5587560" cy="6223320"/>
            <a:chOff x="666720" y="2057400"/>
            <a:chExt cx="5587560" cy="6223320"/>
          </a:xfrm>
        </p:grpSpPr>
        <p:sp>
          <p:nvSpPr>
            <p:cNvPr id="312" name=""/>
            <p:cNvSpPr/>
            <p:nvPr/>
          </p:nvSpPr>
          <p:spPr>
            <a:xfrm>
              <a:off x="757800" y="2100240"/>
              <a:ext cx="336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:  MTCU Assessment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0256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672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38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53680" y="2354400"/>
              <a:ext cx="227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1:  Review Doc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1340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38800" y="23194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7160" y="26114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4160" y="2611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38800" y="25732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26600" y="287028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24120" y="287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0200" y="287028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82600" y="287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31280" y="3081240"/>
              <a:ext cx="186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cumentation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8240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38800" y="2828880"/>
              <a:ext cx="6480" cy="46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76040" y="333540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45960" y="333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38800" y="329724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53680" y="2614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75320" y="359424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59680" y="359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37800" y="3594240"/>
              <a:ext cx="163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sure appropriate 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63560" y="3594240"/>
              <a:ext cx="75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19200" y="3594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38800" y="355284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50080" y="3843360"/>
              <a:ext cx="480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2:  Provide Certification Process Information and Administ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9280" y="401796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47920" y="401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90760" y="4017960"/>
              <a:ext cx="135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ssment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1040" y="40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38800" y="380844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7160" y="431172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34160" y="4311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38800" y="4237200"/>
              <a:ext cx="648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28040" y="4646520"/>
              <a:ext cx="234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Apprenticeship Gloss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61920" y="4646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23000" y="4896000"/>
              <a:ext cx="385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Trades Apprenticeship in O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59160" y="489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27680" y="5145120"/>
              <a:ext cx="210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ulation of the Apprent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16040" y="5145120"/>
              <a:ext cx="191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p Trades and the Tr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73920" y="531828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2320" y="5318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29840" y="556740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3040" y="5567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55880" y="5567400"/>
              <a:ext cx="1436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5800" y="5567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26600" y="58165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24120" y="5816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3080" y="581652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61880" y="5816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29120" y="6066000"/>
              <a:ext cx="19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25600" y="6066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2040" y="606600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3080" y="606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28040" y="6315120"/>
              <a:ext cx="22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84160" y="6315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33800" y="65642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03320" y="6564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8320" y="6564240"/>
              <a:ext cx="215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ssessment Questio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88160" y="656424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41600" y="6564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33800" y="68137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03320" y="681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51560" y="681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90720" y="681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8240" y="6813720"/>
              <a:ext cx="157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ment Checkli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98480" y="681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38800" y="4567320"/>
              <a:ext cx="6480" cy="241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76040" y="70279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48480" y="702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38800" y="6989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1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53680" y="424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5320" y="72867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59680" y="728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000" y="7286760"/>
              <a:ext cx="29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 client background, determine like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64160" y="7459560"/>
              <a:ext cx="278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hway, gaps in training and experi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31840" y="7459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7840" y="767088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2960" y="767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90120" y="7670880"/>
              <a:ext cx="139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S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79360" y="767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2440" y="7881840"/>
              <a:ext cx="290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coming a Certified Tradesperson in O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64680" y="78818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io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6720" y="788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720" y="8093160"/>
              <a:ext cx="682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55760" y="8093160"/>
              <a:ext cx="519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81360" y="8093160"/>
              <a:ext cx="4357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38800" y="7245360"/>
              <a:ext cx="6480" cy="84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38800" y="809316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38800" y="809316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1400" y="8097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BB4-E753-467E-81A1-C8A829496737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9560" y="2743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79560" y="274968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79560" y="2998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9560" y="3005280"/>
            <a:ext cx="468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9560" y="3581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560" y="358776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9560" y="3836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9560" y="384336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79560" y="40924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60240" y="2057400"/>
            <a:ext cx="5585040" cy="2224440"/>
            <a:chOff x="660240" y="2057400"/>
            <a:chExt cx="5585040" cy="2224440"/>
          </a:xfrm>
        </p:grpSpPr>
        <p:sp>
          <p:nvSpPr>
            <p:cNvPr id="421" name=""/>
            <p:cNvSpPr/>
            <p:nvPr/>
          </p:nvSpPr>
          <p:spPr>
            <a:xfrm>
              <a:off x="758880" y="2100240"/>
              <a:ext cx="341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:  MTCU Assessment Prepar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45760" y="210168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cont’d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4048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024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024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672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024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38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51160" y="2355840"/>
              <a:ext cx="45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3:  Provide Assessment Interview Coaching and Refer 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68560" y="2529000"/>
              <a:ext cx="19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TCU Local Branch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8196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024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6720" y="2313000"/>
              <a:ext cx="685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5252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9000" y="2313000"/>
              <a:ext cx="4879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3880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0240" y="231948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52520" y="231948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38800" y="231948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86120" y="2786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92040" y="278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0240" y="2743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52520" y="2743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59000" y="2743200"/>
              <a:ext cx="520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84240" y="274320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2743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0240" y="2749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52520" y="2749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38800" y="2749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38840" y="3083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08000" y="308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47960" y="3083040"/>
              <a:ext cx="279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Certification Pathway Fact 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31840" y="308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22720" y="3333600"/>
              <a:ext cx="185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orkplace Support Serv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69160" y="333360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 Off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44520" y="3333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0240" y="2998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52520" y="2998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38800" y="2998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0240" y="3005280"/>
              <a:ext cx="64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52520" y="3005280"/>
              <a:ext cx="64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38800" y="3005280"/>
              <a:ext cx="64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78920" y="36259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53160" y="3625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0240" y="358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52520" y="358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84240" y="358128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38800" y="358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0240" y="3587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52520" y="3587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8800" y="3587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4640" y="232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56920" y="2752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8216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0240" y="38368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52520" y="38368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38800" y="38368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0240" y="38433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024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024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6720" y="4092480"/>
              <a:ext cx="685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52520" y="38433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5252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59000" y="4092480"/>
              <a:ext cx="520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84240" y="409248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38800" y="38433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3880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3880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1400" y="4098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04920" y="8684640"/>
            <a:ext cx="3429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571-74CE-440D-ABAD-7FAE6267637B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7628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2760" y="2741760"/>
            <a:ext cx="522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7417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9800" y="2741760"/>
            <a:ext cx="4354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6436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2747880"/>
            <a:ext cx="46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29973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05120" y="3003480"/>
            <a:ext cx="4680" cy="78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3790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379728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4046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6280" y="4046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5120" y="40464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64360" y="40464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4052880"/>
            <a:ext cx="4680" cy="53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4589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50180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5120" y="5024520"/>
            <a:ext cx="46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5348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5354640"/>
            <a:ext cx="46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05120" y="56800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5120" y="5686560"/>
            <a:ext cx="468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59371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619272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619272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2280" y="6192720"/>
            <a:ext cx="6840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6280" y="619272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82760" y="6192720"/>
            <a:ext cx="522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05120" y="594360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05120" y="61927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09800" y="6192720"/>
            <a:ext cx="43545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64360" y="619272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264360" y="619272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85800" y="2057400"/>
            <a:ext cx="5598720" cy="4323240"/>
            <a:chOff x="685800" y="2057400"/>
            <a:chExt cx="5598720" cy="4323240"/>
          </a:xfrm>
        </p:grpSpPr>
        <p:sp>
          <p:nvSpPr>
            <p:cNvPr id="530" name=""/>
            <p:cNvSpPr/>
            <p:nvPr/>
          </p:nvSpPr>
          <p:spPr>
            <a:xfrm>
              <a:off x="785520" y="2100240"/>
              <a:ext cx="375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:  Temporary Certifica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0720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228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64360" y="20638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78520" y="2355840"/>
              <a:ext cx="480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4:  Provide C of Q  Exam Preparation Support, Resource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95200" y="2529000"/>
              <a:ext cx="145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ral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4204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80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2280" y="2313000"/>
              <a:ext cx="684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628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82760" y="2313000"/>
              <a:ext cx="4881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64360" y="23130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5800" y="231948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76280" y="231948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64360" y="2319480"/>
              <a:ext cx="612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57400" y="2786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64400" y="278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580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7628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64360" y="274788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64040" y="308124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90720" y="30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33200" y="3081240"/>
              <a:ext cx="20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Certification Pathwa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7640" y="308124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ct 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1456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45760" y="3332160"/>
              <a:ext cx="345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udy Guide for Certificate of Qualification Ex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79440" y="3332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50080" y="358128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8920" y="358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580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7628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64360" y="29973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5800" y="3003480"/>
              <a:ext cx="6480" cy="78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76280" y="3003480"/>
              <a:ext cx="6480" cy="78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64360" y="3003480"/>
              <a:ext cx="6120" cy="78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04480" y="383544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76200" y="383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5800" y="3790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6280" y="3790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9800" y="379080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64360" y="3790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800" y="37972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76280" y="37972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64360" y="37972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80680" y="278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04120" y="413064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89920" y="413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66600" y="4130640"/>
              <a:ext cx="250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 exam preparation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60320" y="4130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06280" y="43797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72480" y="437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52760" y="4379760"/>
              <a:ext cx="1335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am study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79360" y="4379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5800" y="4052880"/>
              <a:ext cx="648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76280" y="4052880"/>
              <a:ext cx="648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64360" y="4052880"/>
              <a:ext cx="612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79960" y="4630680"/>
              <a:ext cx="354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5:  Coach Client on Job Search and Prov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95720" y="46306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b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95560" y="480528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64440" y="4805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45896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76280" y="45896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82760" y="4589640"/>
              <a:ext cx="522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09800" y="4589640"/>
              <a:ext cx="4354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4360" y="458964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459432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6280" y="459432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64360" y="4594320"/>
              <a:ext cx="612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57400" y="5099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64400" y="5099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50180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76280" y="50180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82760" y="5018040"/>
              <a:ext cx="522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9800" y="501804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64360" y="50180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5024520"/>
              <a:ext cx="648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76280" y="5024520"/>
              <a:ext cx="648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64360" y="5024520"/>
              <a:ext cx="612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47920" y="5433840"/>
              <a:ext cx="139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r Broch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31760" y="543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800" y="5348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76280" y="5348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64360" y="534816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5800" y="535464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76280" y="535464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64360" y="535464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04480" y="572436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8720" y="5724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" y="5680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76280" y="5680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09800" y="568008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64360" y="56800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5800" y="568656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76280" y="568656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64360" y="5686560"/>
              <a:ext cx="612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2360" y="2355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80680" y="502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07720" y="5983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5800" y="5937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76280" y="5937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64360" y="5937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" y="59436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76280" y="59436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64360" y="59436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6960" y="619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304920" y="8730720"/>
            <a:ext cx="3429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264-3387-41CE-9808-500FEFDFE89D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2716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76280" y="2716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82760" y="2716200"/>
            <a:ext cx="52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05120" y="2716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9800" y="2716200"/>
            <a:ext cx="4354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64360" y="2716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272268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5120" y="2971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05120" y="2978280"/>
            <a:ext cx="4680" cy="22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522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523080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05120" y="54799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5486400"/>
            <a:ext cx="4680" cy="53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6022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85800" y="2031840"/>
            <a:ext cx="5617440" cy="4180320"/>
            <a:chOff x="685800" y="2031840"/>
            <a:chExt cx="5617440" cy="4180320"/>
          </a:xfrm>
        </p:grpSpPr>
        <p:sp>
          <p:nvSpPr>
            <p:cNvPr id="658" name=""/>
            <p:cNvSpPr/>
            <p:nvPr/>
          </p:nvSpPr>
          <p:spPr>
            <a:xfrm>
              <a:off x="785520" y="2075040"/>
              <a:ext cx="379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:  Temporary Certification Prepar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52200" y="207648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cont’d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45480" y="2075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800" y="20318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5800" y="20318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2280" y="203184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64360" y="2031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64360" y="2031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5800" y="203832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264360" y="203832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77800" y="233028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6:  Provide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084480" y="233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26600" y="2330280"/>
              <a:ext cx="317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, Health and Safety, Labour Market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98800" y="2503440"/>
              <a:ext cx="97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Union I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60000" y="2503440"/>
              <a:ext cx="158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35720" y="2503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22874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2280" y="2287440"/>
              <a:ext cx="684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76280" y="22874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82760" y="2287440"/>
              <a:ext cx="4881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64360" y="22874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800" y="229392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76280" y="229392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64360" y="2293920"/>
              <a:ext cx="612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11320" y="27608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7240" y="276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5800" y="2722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76280" y="2722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64360" y="27226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55400" y="3057480"/>
              <a:ext cx="336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 Specific Certification Pathway Fact 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06640" y="30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50080" y="330660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58920" y="330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64040" y="35560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33560" y="3556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77120" y="3556080"/>
              <a:ext cx="237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Labour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39800" y="355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55760" y="3805200"/>
              <a:ext cx="28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Health and Safe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23160" y="3800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65840" y="4054320"/>
              <a:ext cx="228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ght to Refuse Unsafe Work 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39960" y="405432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04800" y="4054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55760" y="4303800"/>
              <a:ext cx="2759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aling with a Critical Injur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95360" y="4303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64040" y="45529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33560" y="455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74960" y="4552920"/>
              <a:ext cx="265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Health and Safety Fact 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17720" y="455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59000" y="4802040"/>
              <a:ext cx="344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ronto Workers Health and Safety Legal Clin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09560" y="49766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orksh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96800" y="497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5800" y="2971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76280" y="2971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64360" y="2971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5800" y="2978280"/>
              <a:ext cx="6480" cy="22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76280" y="2978280"/>
              <a:ext cx="6480" cy="22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64360" y="2978280"/>
              <a:ext cx="6120" cy="22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04480" y="526896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78720" y="526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5800" y="52243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376280" y="52243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09800" y="522432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64360" y="52243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5800" y="52308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76280" y="52308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64360" y="52308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0200" y="229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480680" y="272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06280" y="55641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73200" y="5564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18200" y="5564160"/>
              <a:ext cx="256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Specific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74920" y="5564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06640" y="58132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16880" y="58132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89920" y="5813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72360" y="581328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57160" y="5813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5800" y="54799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76280" y="54799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64360" y="54799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5800" y="5486400"/>
              <a:ext cx="648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" y="6022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5800" y="6022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2280" y="6022800"/>
              <a:ext cx="684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76280" y="5486400"/>
              <a:ext cx="648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76280" y="6022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82760" y="6022800"/>
              <a:ext cx="522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09800" y="602280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64360" y="5486400"/>
              <a:ext cx="612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64360" y="6022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264360" y="6022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6960" y="6029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04920" y="8730720"/>
            <a:ext cx="3352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0B8-1FF1-4FD1-9FAA-88A0AA94971A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27417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74840" y="2741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0960" y="274176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1880" y="2741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08000" y="274176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264360" y="2741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01880" y="274644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995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74840" y="2995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1880" y="2995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264360" y="2995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01880" y="300204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35766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374840" y="3576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1880" y="3576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08000" y="357660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64360" y="3576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1880" y="3583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832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374840" y="383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901880" y="383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4360" y="383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901880" y="38386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5800" y="40878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74840" y="4087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80960" y="408780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01880" y="4087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908000" y="408780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64360" y="4087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45165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74840" y="45165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80960" y="451656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01880" y="45165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08000" y="451656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264360" y="45165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901880" y="452124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48466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74840" y="4846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1880" y="4846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64360" y="4846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1880" y="4853160"/>
            <a:ext cx="61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01880" y="5349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1880" y="535608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1880" y="5607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5862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5862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2280" y="5862600"/>
            <a:ext cx="682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7484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380960" y="586260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901880" y="5613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0188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586260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26436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26436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685800" y="2057400"/>
            <a:ext cx="5584680" cy="3992760"/>
            <a:chOff x="685800" y="2057400"/>
            <a:chExt cx="5584680" cy="3992760"/>
          </a:xfrm>
        </p:grpSpPr>
        <p:sp>
          <p:nvSpPr>
            <p:cNvPr id="808" name=""/>
            <p:cNvSpPr/>
            <p:nvPr/>
          </p:nvSpPr>
          <p:spPr>
            <a:xfrm>
              <a:off x="787320" y="2100240"/>
              <a:ext cx="342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I:  Trade Certifica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8356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228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5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64360" y="20638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75280" y="2354400"/>
              <a:ext cx="45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7a:  Provide Job Search Coaching and Job Develop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95200" y="2529000"/>
              <a:ext cx="58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7372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5800" y="23130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2280" y="2313000"/>
              <a:ext cx="682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74840" y="23130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380960" y="2313000"/>
              <a:ext cx="48834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4360" y="23130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8580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7484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6436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54160" y="278460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61160" y="278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5800" y="274644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4840" y="274644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64360" y="274644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60800" y="30812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30320" y="30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7480" y="3081240"/>
              <a:ext cx="1852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2068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44680" y="3328920"/>
              <a:ext cx="22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r Information Broch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533480" y="3328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5800" y="300204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74840" y="300204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64360" y="300204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03040" y="362124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72960" y="3624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5800" y="35830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74840" y="35830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264360" y="35830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79240" y="278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02320" y="387828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86680" y="387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69480" y="387828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53920" y="3878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5800" y="3838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74840" y="38386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64360" y="38386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75280" y="4129200"/>
              <a:ext cx="472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9b:  Explore Other Options and Related Trades and Provi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06800" y="4303800"/>
              <a:ext cx="177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965760" y="4303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5800" y="40924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74840" y="40924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64360" y="40924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54160" y="459756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61160" y="4597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5800" y="452124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74840" y="452124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64360" y="452124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260800" y="48546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30320" y="485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78560" y="485460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17720" y="485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65240" y="4854600"/>
              <a:ext cx="157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ment Checkli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25480" y="485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46840" y="5103720"/>
              <a:ext cx="146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04840" y="51037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55680" y="51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5800" y="485316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74840" y="485316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264360" y="485316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3040" y="539424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75480" y="5394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" y="53499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74840" y="53499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08000" y="5349960"/>
              <a:ext cx="4356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64360" y="53499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5800" y="535608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74840" y="535608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64360" y="535608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923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79240" y="4524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2320" y="565308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86680" y="5653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63000" y="5653080"/>
              <a:ext cx="22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entify New Options/Ac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3800" y="5653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5800" y="5607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74840" y="56070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64360" y="56070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5800" y="56134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374840" y="56134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64360" y="56134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86960" y="5867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304920" y="8730720"/>
            <a:ext cx="32004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0FB-C61F-4372-91C4-D363EB66CFAE}" type="slidenum">
              <a:t>8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marymay</cp:lastModifiedBy>
  <dcterms:modified xsi:type="dcterms:W3CDTF">2005-08-25T14:18:53Z</dcterms:modified>
  <cp:revision>215</cp:revision>
  <dc:subject/>
  <dc:title>Newcomers Connecting to Trades Apprenticeship Resources (NeCTAR)</dc:title>
</cp:coreProperties>
</file>